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A57A0-51EC-41B5-A699-4F3AEE5171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98680" y="247680"/>
            <a:ext cx="7806960" cy="10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휴먼견출고딕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8064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4000" y="4077000"/>
            <a:ext cx="8064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3049C-DAE2-4631-8904-D271E65E24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98680" y="247680"/>
            <a:ext cx="7806960" cy="10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휴먼견출고딕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3935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16440" y="1557000"/>
            <a:ext cx="3935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4000" y="4077000"/>
            <a:ext cx="3935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16440" y="4077000"/>
            <a:ext cx="3935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D0236-7715-4C8C-88FC-B60A26171E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98680" y="247680"/>
            <a:ext cx="7806960" cy="10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휴먼견출고딕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259632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10640" y="1557000"/>
            <a:ext cx="259632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36920" y="1557000"/>
            <a:ext cx="259632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4000" y="4077000"/>
            <a:ext cx="259632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10640" y="4077000"/>
            <a:ext cx="259632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36920" y="4077000"/>
            <a:ext cx="259632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2F672-5C12-4538-843E-6C58EFEDF8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98680" y="247680"/>
            <a:ext cx="7806960" cy="10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휴먼견출고딕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4000" y="1557000"/>
            <a:ext cx="8064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8680" y="247680"/>
            <a:ext cx="7806960" cy="10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휴먼견출고딕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8064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98680" y="247680"/>
            <a:ext cx="7806960" cy="10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휴먼견출고딕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39351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6440" y="1557000"/>
            <a:ext cx="39351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98680" y="247680"/>
            <a:ext cx="7806960" cy="10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휴먼견출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98680" y="247680"/>
            <a:ext cx="7806960" cy="47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98680" y="247680"/>
            <a:ext cx="7806960" cy="10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휴먼견출고딕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3935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16440" y="1557000"/>
            <a:ext cx="39351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4000" y="4077000"/>
            <a:ext cx="3935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8680" y="247680"/>
            <a:ext cx="7806960" cy="10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휴먼견출고딕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4000" y="1557000"/>
            <a:ext cx="8064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26169-9E5F-4B94-B193-D07448EA97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8680" y="247680"/>
            <a:ext cx="7806960" cy="10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휴먼견출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39351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6440" y="1557000"/>
            <a:ext cx="3935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16440" y="4077000"/>
            <a:ext cx="3935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98680" y="247680"/>
            <a:ext cx="7806960" cy="10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휴먼견출고딕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3935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16440" y="1557000"/>
            <a:ext cx="3935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000" y="4077000"/>
            <a:ext cx="8064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98680" y="247680"/>
            <a:ext cx="7806960" cy="10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휴먼견출고딕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8064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4000" y="4077000"/>
            <a:ext cx="8064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98680" y="247680"/>
            <a:ext cx="7806960" cy="10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휴먼견출고딕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3935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16440" y="1557000"/>
            <a:ext cx="3935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4000" y="4077000"/>
            <a:ext cx="3935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16440" y="4077000"/>
            <a:ext cx="3935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98680" y="247680"/>
            <a:ext cx="7806960" cy="10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휴먼견출고딕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259632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10640" y="1557000"/>
            <a:ext cx="259632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36920" y="1557000"/>
            <a:ext cx="259632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4000" y="4077000"/>
            <a:ext cx="259632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410640" y="4077000"/>
            <a:ext cx="259632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36920" y="4077000"/>
            <a:ext cx="259632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8680" y="247680"/>
            <a:ext cx="7806960" cy="10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휴먼견출고딕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8064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1AD66-D415-4521-8ED5-3D285335B5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98680" y="247680"/>
            <a:ext cx="7806960" cy="10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휴먼견출고딕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39351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16440" y="1557000"/>
            <a:ext cx="39351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CA1D7-6685-4D50-8814-5B1AD360EA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8680" y="247680"/>
            <a:ext cx="7806960" cy="10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휴먼견출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940FD-55A9-496E-B484-4D36090953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98680" y="247680"/>
            <a:ext cx="7806960" cy="47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6063E-E8CE-465E-BEBB-F18787AA6B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98680" y="247680"/>
            <a:ext cx="7806960" cy="10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휴먼견출고딕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3935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6440" y="1557000"/>
            <a:ext cx="39351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4000" y="4077000"/>
            <a:ext cx="3935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F5A18-023F-4B07-8CCC-9DCBB5E7C0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98680" y="247680"/>
            <a:ext cx="7806960" cy="10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휴먼견출고딕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39351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6440" y="1557000"/>
            <a:ext cx="3935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16440" y="4077000"/>
            <a:ext cx="3935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DE229-757F-422E-9EBE-288DB3C4B7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98680" y="247680"/>
            <a:ext cx="7806960" cy="10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휴먼견출고딕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3935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16440" y="1557000"/>
            <a:ext cx="3935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4000" y="4077000"/>
            <a:ext cx="8064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B1ECB-C6CB-466F-84D0-72F96F8D93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564000" y="0"/>
            <a:ext cx="5292720" cy="5493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99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395280" y="0"/>
            <a:ext cx="3313080" cy="836640"/>
          </a:xfrm>
          <a:custGeom>
            <a:avLst/>
            <a:gdLst/>
            <a:ahLst/>
            <a:rect l="l" t="t" r="r" b="b"/>
            <a:pathLst>
              <a:path w="1728" h="735">
                <a:moveTo>
                  <a:pt x="1728" y="0"/>
                </a:moveTo>
                <a:lnTo>
                  <a:pt x="1728" y="480"/>
                </a:lnTo>
                <a:lnTo>
                  <a:pt x="380" y="482"/>
                </a:lnTo>
                <a:lnTo>
                  <a:pt x="354" y="480"/>
                </a:lnTo>
                <a:lnTo>
                  <a:pt x="308" y="489"/>
                </a:lnTo>
                <a:cubicBezTo>
                  <a:pt x="290" y="498"/>
                  <a:pt x="263" y="513"/>
                  <a:pt x="246" y="531"/>
                </a:cubicBezTo>
                <a:cubicBezTo>
                  <a:pt x="229" y="549"/>
                  <a:pt x="215" y="574"/>
                  <a:pt x="206" y="597"/>
                </a:cubicBezTo>
                <a:cubicBezTo>
                  <a:pt x="197" y="620"/>
                  <a:pt x="194" y="643"/>
                  <a:pt x="192" y="666"/>
                </a:cubicBezTo>
                <a:lnTo>
                  <a:pt x="192" y="735"/>
                </a:lnTo>
                <a:lnTo>
                  <a:pt x="0" y="735"/>
                </a:lnTo>
                <a:lnTo>
                  <a:pt x="0" y="480"/>
                </a:lnTo>
                <a:lnTo>
                  <a:pt x="0" y="0"/>
                </a:lnTo>
                <a:lnTo>
                  <a:pt x="1728" y="0"/>
                </a:lnTo>
                <a:close/>
              </a:path>
            </a:pathLst>
          </a:cu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76212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228600" y="1268280"/>
            <a:ext cx="7391520" cy="319320"/>
            <a:chOff x="228600" y="1268280"/>
            <a:chExt cx="7391520" cy="319320"/>
          </a:xfrm>
        </p:grpSpPr>
        <p:sp>
          <p:nvSpPr>
            <p:cNvPr id="4" name=""/>
            <p:cNvSpPr/>
            <p:nvPr/>
          </p:nvSpPr>
          <p:spPr>
            <a:xfrm>
              <a:off x="609480" y="12682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2419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28600" y="1268280"/>
              <a:ext cx="393840" cy="319320"/>
            </a:xfrm>
            <a:prstGeom prst="flowChartDelay">
              <a:avLst/>
            </a:prstGeom>
            <a:solidFill>
              <a:srgbClr val="2419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ftr" idx="1"/>
          </p:nvPr>
        </p:nvSpPr>
        <p:spPr>
          <a:xfrm>
            <a:off x="3635280" y="6382800"/>
            <a:ext cx="2897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3366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ldNum" idx="2"/>
          </p:nvPr>
        </p:nvSpPr>
        <p:spPr>
          <a:xfrm>
            <a:off x="7009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3366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0F5F0-7585-47D5-85DA-DCC2302200F3}" type="slidenum">
              <a:rPr b="0" lang="ko-KR" sz="1400" spc="-1" strike="noStrike">
                <a:solidFill>
                  <a:srgbClr val="003366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title"/>
          </p:nvPr>
        </p:nvSpPr>
        <p:spPr>
          <a:xfrm>
            <a:off x="598680" y="247680"/>
            <a:ext cx="7806960" cy="10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휴먼견출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휴먼견출고딕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body"/>
          </p:nvPr>
        </p:nvSpPr>
        <p:spPr>
          <a:xfrm>
            <a:off x="684000" y="1557000"/>
            <a:ext cx="8064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41996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24199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24199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601"/>
              </a:spcBef>
              <a:buClr>
                <a:srgbClr val="24199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601"/>
              </a:spcBef>
              <a:buClr>
                <a:srgbClr val="24199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601"/>
              </a:spcBef>
              <a:buClr>
                <a:srgbClr val="0033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601"/>
              </a:spcBef>
              <a:buClr>
                <a:srgbClr val="0033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553080"/>
            <a:ext cx="8915400" cy="0"/>
          </a:xfrm>
          <a:prstGeom prst="line">
            <a:avLst/>
          </a:prstGeom>
          <a:ln w="3816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798720" y="2894040"/>
            <a:ext cx="4876920" cy="318960"/>
            <a:chOff x="3798720" y="289404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798720" y="289404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415360" y="2894040"/>
              <a:ext cx="260280" cy="318960"/>
            </a:xfrm>
            <a:prstGeom prst="flowChartDelay">
              <a:avLst/>
            </a:prstGeom>
            <a:solidFill>
              <a:srgbClr val="0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굴림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3366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휴먼견출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휴먼견출고딕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006666"/>
              </a:solidFill>
              <a:latin typeface="굴림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241996"/>
              </a:buClr>
              <a:buFont typeface="굴림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601"/>
              </a:spcBef>
              <a:buClr>
                <a:srgbClr val="241996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601"/>
              </a:spcBef>
              <a:buClr>
                <a:srgbClr val="241996"/>
              </a:buClr>
              <a:buFont typeface="굴림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601"/>
              </a:spcBef>
              <a:buClr>
                <a:srgbClr val="0033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601"/>
              </a:spcBef>
              <a:buClr>
                <a:srgbClr val="0033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85400" y="1582200"/>
            <a:ext cx="76662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견출고딕"/>
              </a:rPr>
              <a:t>창의적 문제해결 기법</a:t>
            </a:r>
            <a:r>
              <a:rPr b="0" lang="en-US" sz="4400" spc="-1" strike="noStrike">
                <a:solidFill>
                  <a:srgbClr val="000000"/>
                </a:solidFill>
                <a:latin typeface="휴먼견출고딕"/>
              </a:rPr>
              <a:t>(TRIZ)</a:t>
            </a:r>
            <a:endParaRPr b="0" lang="en-US" sz="4400" spc="-1" strike="noStrike">
              <a:solidFill>
                <a:srgbClr val="000000"/>
              </a:solidFill>
              <a:latin typeface="휴먼견출고딕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견출고딕"/>
              </a:rPr>
              <a:t>국내의 </a:t>
            </a:r>
            <a:r>
              <a:rPr b="0" lang="en-US" sz="4400" spc="-1" strike="noStrike">
                <a:solidFill>
                  <a:srgbClr val="000000"/>
                </a:solidFill>
                <a:latin typeface="휴먼견출고딕"/>
              </a:rPr>
              <a:t>TRIZ</a:t>
            </a:r>
            <a:r>
              <a:rPr b="0" lang="ko-KR" sz="4400" spc="-1" strike="noStrike">
                <a:solidFill>
                  <a:srgbClr val="000000"/>
                </a:solidFill>
                <a:latin typeface="휴먼견출고딕"/>
              </a:rPr>
              <a:t> </a:t>
            </a:r>
            <a:r>
              <a:rPr b="0" lang="ko-KR" sz="4400" spc="-1" strike="noStrike">
                <a:solidFill>
                  <a:srgbClr val="000000"/>
                </a:solidFill>
                <a:latin typeface="휴먼견출고딕"/>
              </a:rPr>
              <a:t>동향</a:t>
            </a:r>
            <a:endParaRPr b="0" lang="en-US" sz="4400" spc="-1" strike="noStrike">
              <a:solidFill>
                <a:srgbClr val="000000"/>
              </a:solidFill>
              <a:latin typeface="휴먼견출고딕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2560" y="1557000"/>
            <a:ext cx="8785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41996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삼 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4199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9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년 삼성전자는 기술적인 문제를 고민하던 한 직원이 우연히 트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즈를 통해 해결책을 찾으면서 트리즈를 처음 접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4199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01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년 삼성전기 트리즈시범 도입 후 큰 효과를 검증 ⇒ 의무적용결정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4199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삼성전기 수원 사업장에서 ‘트리즈 경진 대회’ 개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4199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01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년 삼성전자 기술 총괄내에서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트리즈추진사무국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을 신설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  ⇒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트리즈를 본격적으로 전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4199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06.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5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삼성전자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삼성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DI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삼성전기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삼성코닝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삼성코닝정밀유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삼성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DS,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삼성종합기술원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개사 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삼성트리즈협회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(STA)'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발대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4199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06/6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삼성전자 러시아 전문가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명과  통역을 포함한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5~6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명의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트리즈 추진조직을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VIP(Value Innovation Program)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센터 내에 운영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&amp; 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러시아 전문가 추가 보강 계획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⇒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우리 나라에서는 삼성그룹만 유일하게 전사적으로 트리즈 정착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위한 트리즈 추진사무국 소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979640" y="1628640"/>
            <a:ext cx="1152360" cy="335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F006A-61FB-45FE-8829-B89A7218568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견출고딕"/>
              </a:rPr>
              <a:t>국내의 </a:t>
            </a:r>
            <a:r>
              <a:rPr b="0" lang="en-US" sz="4400" spc="-1" strike="noStrike">
                <a:solidFill>
                  <a:srgbClr val="000000"/>
                </a:solidFill>
                <a:latin typeface="휴먼견출고딕"/>
              </a:rPr>
              <a:t>TRIZ </a:t>
            </a:r>
            <a:r>
              <a:rPr b="0" lang="ko-KR" sz="4400" spc="-1" strike="noStrike">
                <a:solidFill>
                  <a:srgbClr val="000000"/>
                </a:solidFill>
                <a:latin typeface="휴먼견출고딕"/>
              </a:rPr>
              <a:t>동향</a:t>
            </a:r>
            <a:endParaRPr b="0" lang="en-US" sz="4400" spc="-1" strike="noStrike">
              <a:solidFill>
                <a:srgbClr val="000000"/>
              </a:solidFill>
              <a:latin typeface="휴먼견출고딕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55280" y="1628640"/>
            <a:ext cx="83883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241996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LG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24199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96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년 국내 최초 도입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24199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05.12  LG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그룹은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LG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전자 및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LG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화학과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'LS-LG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트리즈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협회 공동 결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24199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매년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회 성과 공유회 ⇒ 트리즈 통한 문제 해결 정보 공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24199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정기적 모임 ⇒ 기술 개발시 발생되는 문제 해결 위한 다양한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상호       연구 수행 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24199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LG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생산기술원에 트리즈 추진 조직 결성 ⇒ 하이테크기술 개발에 트리즈 기법 적극 활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241996"/>
              </a:buClr>
              <a:buFont typeface="굴림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LS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전선은 러시아 전문가 초청 ⇒ 직원 교육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241996"/>
              </a:buClr>
              <a:buFont typeface="굴림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계열사 별로 회사 별도의 전문교육 시스템을 운영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763640" y="1628640"/>
            <a:ext cx="99072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06BDE-D7A6-43FA-BE2D-A4665438C93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견출고딕"/>
              </a:rPr>
              <a:t>국내의</a:t>
            </a:r>
            <a:r>
              <a:rPr b="0" lang="en-US" sz="4400" spc="-1" strike="noStrike">
                <a:solidFill>
                  <a:srgbClr val="000000"/>
                </a:solidFill>
                <a:latin typeface="휴먼견출고딕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휴먼견출고딕"/>
              </a:rPr>
              <a:t>TRIZ</a:t>
            </a:r>
            <a:r>
              <a:rPr b="0" lang="ko-KR" sz="4400" spc="-1" strike="noStrike">
                <a:solidFill>
                  <a:srgbClr val="000000"/>
                </a:solidFill>
                <a:latin typeface="휴먼견출고딕"/>
              </a:rPr>
              <a:t> </a:t>
            </a:r>
            <a:r>
              <a:rPr b="0" lang="ko-KR" sz="4400" spc="-1" strike="noStrike">
                <a:solidFill>
                  <a:srgbClr val="000000"/>
                </a:solidFill>
                <a:latin typeface="휴먼견출고딕"/>
              </a:rPr>
              <a:t>동향</a:t>
            </a:r>
            <a:endParaRPr b="0" lang="en-US" sz="4400" spc="-1" strike="noStrike">
              <a:solidFill>
                <a:srgbClr val="000000"/>
              </a:solidFill>
              <a:latin typeface="휴먼견출고딕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5280" y="1628640"/>
            <a:ext cx="80643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241996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하이닉스 반도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24199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06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년 트리지를 본격 적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24199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여명의 전문인력을 양성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24199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선행공정분야와 패키지 연구분야에 트리즈를 적용 ⇒  생산성 개선 효과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241996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포스코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24199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트리즈의 도입의 일환으로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명의 트리즈 이론 전문가를 양성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3492360" y="1628640"/>
            <a:ext cx="981360" cy="5050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2195640" y="3933720"/>
            <a:ext cx="961920" cy="40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E1BB1-2F16-4C95-8041-F1D207E4D00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휴먼견출고딕"/>
              </a:rPr>
              <a:t>TRIZ</a:t>
            </a:r>
            <a:r>
              <a:rPr b="0" lang="ko-KR" sz="4400" spc="-1" strike="noStrike">
                <a:solidFill>
                  <a:srgbClr val="000000"/>
                </a:solidFill>
                <a:latin typeface="휴먼견출고딕"/>
              </a:rPr>
              <a:t>의 중요 개념</a:t>
            </a:r>
            <a:r>
              <a:rPr b="0" lang="ko-KR" sz="4000" spc="-1" strike="noStrike">
                <a:solidFill>
                  <a:srgbClr val="000000"/>
                </a:solidFill>
                <a:latin typeface="휴먼견출고딕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휴먼견출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8064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241996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모순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Contradictio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4199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서로 양립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공존할 수 없는 것들 사이의 대립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4199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관련 주체가 물질이냐 비물질이냐와 무관하며 요구사항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자연 법칙과 관련된 가설 등도 때론 모순을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내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4199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Genrich Altshuller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ko-KR" sz="2000" spc="-1" strike="noStrike">
                <a:solidFill>
                  <a:srgbClr val="3333ff"/>
                </a:solidFill>
                <a:latin typeface="굴림"/>
              </a:rPr>
              <a:t>기술적 모순과 물리적 모순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으로 구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835280" y="3284640"/>
            <a:ext cx="6121080" cy="3025440"/>
            <a:chOff x="1835280" y="3284640"/>
            <a:chExt cx="6121080" cy="3025440"/>
          </a:xfrm>
        </p:grpSpPr>
        <p:sp>
          <p:nvSpPr>
            <p:cNvPr id="163" name=""/>
            <p:cNvSpPr/>
            <p:nvPr/>
          </p:nvSpPr>
          <p:spPr>
            <a:xfrm>
              <a:off x="1835280" y="5394960"/>
              <a:ext cx="1849680" cy="915120"/>
            </a:xfrm>
            <a:prstGeom prst="roundRect">
              <a:avLst>
                <a:gd name="adj" fmla="val 13745"/>
              </a:avLst>
            </a:prstGeom>
            <a:noFill/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3366"/>
                  </a:solidFill>
                  <a:latin typeface="굴림"/>
                  <a:ea typeface="굴림"/>
                </a:rPr>
                <a:t>기술적 모순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106320" y="5394960"/>
              <a:ext cx="1850040" cy="915120"/>
            </a:xfrm>
            <a:prstGeom prst="roundRect">
              <a:avLst>
                <a:gd name="adj" fmla="val 13745"/>
              </a:avLst>
            </a:prstGeom>
            <a:noFill/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3366"/>
                  </a:solidFill>
                  <a:latin typeface="굴림"/>
                  <a:ea typeface="굴림"/>
                </a:rPr>
                <a:t>물리적 모순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28240" y="3284640"/>
              <a:ext cx="1849680" cy="1305720"/>
            </a:xfrm>
            <a:prstGeom prst="ellipse">
              <a:avLst/>
            </a:prstGeom>
            <a:solidFill>
              <a:srgbClr val="241996">
                <a:alpha val="34000"/>
              </a:srgbClr>
            </a:solidFill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모   순</a:t>
              </a: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8138400">
              <a:off x="3115440" y="4690800"/>
              <a:ext cx="1145160" cy="463680"/>
            </a:xfrm>
            <a:prstGeom prst="rightArrow">
              <a:avLst>
                <a:gd name="adj1" fmla="val 43130"/>
                <a:gd name="adj2" fmla="val 109262"/>
              </a:avLst>
            </a:prstGeom>
            <a:solidFill>
              <a:srgbClr val="000080"/>
            </a:solidFill>
            <a:ln w="9360">
              <a:solidFill>
                <a:srgbClr val="8dbb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2598000">
              <a:off x="5270040" y="4672440"/>
              <a:ext cx="1145160" cy="463680"/>
            </a:xfrm>
            <a:prstGeom prst="rightArrow">
              <a:avLst>
                <a:gd name="adj1" fmla="val 43130"/>
                <a:gd name="adj2" fmla="val 109262"/>
              </a:avLst>
            </a:prstGeom>
            <a:solidFill>
              <a:srgbClr val="000080"/>
            </a:solidFill>
            <a:ln w="9360">
              <a:solidFill>
                <a:srgbClr val="8dbb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32418-0883-4F1A-9D0F-EADEA6290FB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98680" y="247680"/>
            <a:ext cx="7806960" cy="10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휴먼견출고딕"/>
              </a:rPr>
              <a:t>TRIZ</a:t>
            </a:r>
            <a:r>
              <a:rPr b="0" lang="ko-KR" sz="4400" spc="-1" strike="noStrike">
                <a:solidFill>
                  <a:srgbClr val="000000"/>
                </a:solidFill>
                <a:latin typeface="휴먼견출고딕"/>
              </a:rPr>
              <a:t>의 중요 개념</a:t>
            </a:r>
            <a:endParaRPr b="0" lang="en-US" sz="4400" spc="-1" strike="noStrike">
              <a:solidFill>
                <a:srgbClr val="000000"/>
              </a:solidFill>
              <a:latin typeface="휴먼견출고딕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755640" y="1557360"/>
            <a:ext cx="856944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241996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기술적 모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buClr>
                <a:srgbClr val="24199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『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어떤 기술시스템의 변수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를 개선하고자 하면 다른 변수인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가 악화한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』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와 같은 상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엔진의 힘이 클수록 비행기의 속도 증가 엔진의 크기가 클수록 무게의 증가로 비행기의 속도 저하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⇒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기술적으로 상충되는 문제해결을 필요로 하는 기술적 모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241996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물리적 모순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Physical Contractio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buClr>
                <a:srgbClr val="24199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기술적 모순의 배후에 담겨있는 모순을 발견해 문제해결을 도모하는 접근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buClr>
                <a:srgbClr val="24199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동일 변수가 배타적 상태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자기대립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로 되지 않으면 안될 경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buClr>
                <a:srgbClr val="24199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『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어떤 변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C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가 높아야 하지만 동시에 낮기도 해야 하는 경우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』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등이 해당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buClr>
                <a:srgbClr val="24199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기술적 모순에 비해 문제의 추상도가 높고 본질적으로 문제를 파악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비행기의 이착륙을 위해 바퀴가 필요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바퀴가 있으면 고속 비행이 불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         ⇒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바퀴가 있어야 하는 동시에 없어야 하는 물리적 모순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703DC-3286-41AA-9489-EC4FEC0906A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휴먼견출고딕"/>
              </a:rPr>
              <a:t>TRIZ</a:t>
            </a:r>
            <a:r>
              <a:rPr b="0" lang="ko-KR" sz="4400" spc="-1" strike="noStrike">
                <a:solidFill>
                  <a:srgbClr val="000000"/>
                </a:solidFill>
                <a:latin typeface="휴먼견출고딕"/>
              </a:rPr>
              <a:t>의 중요 개념</a:t>
            </a:r>
            <a:endParaRPr b="0" lang="en-US" sz="4400" spc="-1" strike="noStrike">
              <a:solidFill>
                <a:srgbClr val="000000"/>
              </a:solidFill>
              <a:latin typeface="휴먼견출고딕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53840" y="1625760"/>
            <a:ext cx="8065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241996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시스템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System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24199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상호 작용에 의해 서로 관련을 맺고 있는 것들의 조직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24199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인간에 의해 어떤 방식으로든 변화시키고자 하는 대상이 되는 시스템을 특히 기술적 시스템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(technical system)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이라 명명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24199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기술적 시스템과 관련된 모순의 극복을 통해서만 혁신적인 발전이 가능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241996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이상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24199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어떤 기술시스템이 그 일생을 통해서 더욱 신뢰성 있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단순하며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효과적으로 되려는 경향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4199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더욱 이상적으로 되어가는 것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91B77-83E6-46AC-8DB2-E473A398D573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휴먼견출고딕"/>
              </a:rPr>
              <a:t>TRIZ</a:t>
            </a:r>
            <a:r>
              <a:rPr b="0" lang="ko-KR" sz="4400" spc="-1" strike="noStrike">
                <a:solidFill>
                  <a:srgbClr val="000000"/>
                </a:solidFill>
                <a:latin typeface="휴먼견출고딕"/>
              </a:rPr>
              <a:t>의 중요 개념</a:t>
            </a:r>
            <a:endParaRPr b="0" lang="en-US" sz="4400" spc="-1" strike="noStrike">
              <a:solidFill>
                <a:srgbClr val="000000"/>
              </a:solidFill>
              <a:latin typeface="휴먼견출고딕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8064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241996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자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24199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물질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에너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공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기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시스템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조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차이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변화 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24199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문제를 구성하고 문제 해결에 사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lnSpc>
                <a:spcPct val="110000"/>
              </a:lnSpc>
              <a:spcBef>
                <a:spcPts val="601"/>
              </a:spcBef>
              <a:buClr>
                <a:srgbClr val="24199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문제 주위에 존재 ⇒ 싸고 편하고 빠르게 활용 가능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241996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물질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장 분석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Su-Field Analysi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24199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시스템을 물질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(Substance)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과 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(Field)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로 분류하여 개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241996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진화의 패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24199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미래의 제품 진화 시나리오 작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24199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미래 제품 예측에 대한 접근을 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63C30-EC86-4F39-864F-F888117A6A31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휴먼견출고딕"/>
              </a:rPr>
              <a:t>TRIZ</a:t>
            </a:r>
            <a:r>
              <a:rPr b="0" lang="ko-KR" sz="4400" spc="-1" strike="noStrike">
                <a:solidFill>
                  <a:srgbClr val="000000"/>
                </a:solidFill>
                <a:latin typeface="휴먼견출고딕"/>
              </a:rPr>
              <a:t>의 적용 원리</a:t>
            </a:r>
            <a:endParaRPr b="0" lang="en-US" sz="4400" spc="-1" strike="noStrike">
              <a:solidFill>
                <a:srgbClr val="000000"/>
              </a:solidFill>
              <a:latin typeface="휴먼견출고딕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62120" y="1593360"/>
            <a:ext cx="813096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241996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발명원리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Inventive Principles)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24199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기술을 발전시키는 창조적 혁신을 위한 기초 원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24199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G. Altshuller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만 가지의 특허를 분석하는 과정에서 발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24199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연구과정 중 발견된 가장 중요한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가지 공통 사실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241996"/>
              </a:buClr>
              <a:buFont typeface="굴림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기술의 진화 유형은 산업과 과학의 경계를 뛰어넘어 반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241996"/>
              </a:buClr>
              <a:buFont typeface="굴림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문제와 문제의 해결안은 산업과 과학의 경계를 뛰어넘어 반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241996"/>
              </a:buClr>
              <a:buFont typeface="굴림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혁신은 다른 분야의 과학효과를 이용하여 발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24199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우수한 특허의 분석으로부터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가지의 원리 발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D18D8-6B28-469B-B584-DD96EC29DAC3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휴먼견출고딕"/>
              </a:rPr>
              <a:t>TRIZ</a:t>
            </a:r>
            <a:r>
              <a:rPr b="0" lang="ko-KR" sz="4400" spc="-1" strike="noStrike">
                <a:solidFill>
                  <a:srgbClr val="000000"/>
                </a:solidFill>
                <a:latin typeface="휴먼견출고딕"/>
              </a:rPr>
              <a:t>의 적용 원리</a:t>
            </a:r>
            <a:endParaRPr b="0" lang="en-US" sz="4400" spc="-1" strike="noStrike">
              <a:solidFill>
                <a:srgbClr val="000000"/>
              </a:solidFill>
              <a:latin typeface="휴먼견출고딕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22226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826920" y="1701720"/>
          <a:ext cx="8065800" cy="4680000"/>
        </p:xfrm>
        <a:graphic>
          <a:graphicData uri="http://schemas.openxmlformats.org/drawingml/2006/table">
            <a:tbl>
              <a:tblPr/>
              <a:tblGrid>
                <a:gridCol w="2016720"/>
                <a:gridCol w="2017080"/>
                <a:gridCol w="2015280"/>
                <a:gridCol w="2016720"/>
              </a:tblGrid>
              <a:tr h="936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분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72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72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6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범용성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/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다양도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3366"/>
                      </a:solidFill>
                    </a:lnL>
                    <a:lnR w="72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72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1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사전예방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3366"/>
                      </a:solidFill>
                    </a:lnL>
                    <a:lnR w="72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72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6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과부족조치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72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2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추출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720">
                      <a:solidFill>
                        <a:srgbClr val="003366"/>
                      </a:solidFill>
                    </a:lnR>
                    <a:lnT w="720">
                      <a:solidFill>
                        <a:srgbClr val="003366"/>
                      </a:solidFill>
                    </a:lnT>
                    <a:lnB w="72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7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포개기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3366"/>
                      </a:solidFill>
                    </a:lnL>
                    <a:lnR w="720">
                      <a:solidFill>
                        <a:srgbClr val="003366"/>
                      </a:solidFill>
                    </a:lnR>
                    <a:lnT w="720">
                      <a:solidFill>
                        <a:srgbClr val="003366"/>
                      </a:solidFill>
                    </a:lnT>
                    <a:lnB w="72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2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높이맞추기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3366"/>
                      </a:solidFill>
                    </a:lnL>
                    <a:lnR w="720">
                      <a:solidFill>
                        <a:srgbClr val="003366"/>
                      </a:solidFill>
                    </a:lnR>
                    <a:lnT w="720">
                      <a:solidFill>
                        <a:srgbClr val="003366"/>
                      </a:solidFill>
                    </a:lnT>
                    <a:lnB w="72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7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차원바꾸기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720">
                      <a:solidFill>
                        <a:srgbClr val="003366"/>
                      </a:solidFill>
                    </a:lnT>
                    <a:lnB w="72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3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국소적 성질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720">
                      <a:solidFill>
                        <a:srgbClr val="003366"/>
                      </a:solidFill>
                    </a:lnR>
                    <a:lnT w="720">
                      <a:solidFill>
                        <a:srgbClr val="003366"/>
                      </a:solidFill>
                    </a:lnT>
                    <a:lnB w="72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8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평형추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3366"/>
                      </a:solidFill>
                    </a:lnL>
                    <a:lnR w="720">
                      <a:solidFill>
                        <a:srgbClr val="003366"/>
                      </a:solidFill>
                    </a:lnR>
                    <a:lnT w="720">
                      <a:solidFill>
                        <a:srgbClr val="003366"/>
                      </a:solidFill>
                    </a:lnT>
                    <a:lnB w="72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3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반대로하기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3366"/>
                      </a:solidFill>
                    </a:lnL>
                    <a:lnR w="720">
                      <a:solidFill>
                        <a:srgbClr val="003366"/>
                      </a:solidFill>
                    </a:lnR>
                    <a:lnT w="720">
                      <a:solidFill>
                        <a:srgbClr val="003366"/>
                      </a:solidFill>
                    </a:lnT>
                    <a:lnB w="72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8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기계적진동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720">
                      <a:solidFill>
                        <a:srgbClr val="003366"/>
                      </a:solidFill>
                    </a:lnT>
                    <a:lnB w="72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4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비대칭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720">
                      <a:solidFill>
                        <a:srgbClr val="003366"/>
                      </a:solidFill>
                    </a:lnR>
                    <a:lnT w="720">
                      <a:solidFill>
                        <a:srgbClr val="003366"/>
                      </a:solidFill>
                    </a:lnT>
                    <a:lnB w="72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9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선행 반대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 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조치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3366"/>
                      </a:solidFill>
                    </a:lnL>
                    <a:lnR w="720">
                      <a:solidFill>
                        <a:srgbClr val="003366"/>
                      </a:solidFill>
                    </a:lnR>
                    <a:lnT w="720">
                      <a:solidFill>
                        <a:srgbClr val="003366"/>
                      </a:solidFill>
                    </a:lnT>
                    <a:lnB w="72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4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구형화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3366"/>
                      </a:solidFill>
                    </a:lnL>
                    <a:lnR w="720">
                      <a:solidFill>
                        <a:srgbClr val="003366"/>
                      </a:solidFill>
                    </a:lnR>
                    <a:lnT w="720">
                      <a:solidFill>
                        <a:srgbClr val="003366"/>
                      </a:solidFill>
                    </a:lnT>
                    <a:lnB w="72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9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주기적진동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720">
                      <a:solidFill>
                        <a:srgbClr val="003366"/>
                      </a:solidFill>
                    </a:lnT>
                    <a:lnB w="72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5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통합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720">
                      <a:solidFill>
                        <a:srgbClr val="003366"/>
                      </a:solidFill>
                    </a:lnR>
                    <a:lnT w="72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0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선행조치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3366"/>
                      </a:solidFill>
                    </a:lnL>
                    <a:lnR w="720">
                      <a:solidFill>
                        <a:srgbClr val="003366"/>
                      </a:solidFill>
                    </a:lnR>
                    <a:lnT w="72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5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역동성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3366"/>
                      </a:solidFill>
                    </a:lnL>
                    <a:lnR w="720">
                      <a:solidFill>
                        <a:srgbClr val="003366"/>
                      </a:solidFill>
                    </a:lnR>
                    <a:lnT w="72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20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유익한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  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작용의 지속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72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0" y="463536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04DFC-2853-46FF-9009-BA4555538996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휴먼견출고딕"/>
              </a:rPr>
              <a:t>TRIZ</a:t>
            </a:r>
            <a:r>
              <a:rPr b="0" lang="ko-KR" sz="4400" spc="-1" strike="noStrike">
                <a:solidFill>
                  <a:srgbClr val="000000"/>
                </a:solidFill>
                <a:latin typeface="휴먼견출고딕"/>
              </a:rPr>
              <a:t>의 적용 원리</a:t>
            </a:r>
            <a:endParaRPr b="0" lang="en-US" sz="4400" spc="-1" strike="noStrike">
              <a:solidFill>
                <a:srgbClr val="000000"/>
              </a:solidFill>
              <a:latin typeface="휴먼견출고딕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22622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459576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231300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826920" y="1700280"/>
          <a:ext cx="8066160" cy="4681440"/>
        </p:xfrm>
        <a:graphic>
          <a:graphicData uri="http://schemas.openxmlformats.org/drawingml/2006/table">
            <a:tbl>
              <a:tblPr/>
              <a:tblGrid>
                <a:gridCol w="2016360"/>
                <a:gridCol w="2017800"/>
                <a:gridCol w="2016000"/>
                <a:gridCol w="2016000"/>
              </a:tblGrid>
              <a:tr h="936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21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고속처리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72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72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26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복제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3366"/>
                      </a:solidFill>
                    </a:lnL>
                    <a:lnR w="72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72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31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다공질재료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3366"/>
                      </a:solidFill>
                    </a:lnL>
                    <a:lnR w="72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72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36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상전이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72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22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전화위복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720">
                      <a:solidFill>
                        <a:srgbClr val="003366"/>
                      </a:solidFill>
                    </a:lnR>
                    <a:lnT w="720">
                      <a:solidFill>
                        <a:srgbClr val="003366"/>
                      </a:solidFill>
                    </a:lnT>
                    <a:lnB w="72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27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일회용품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3366"/>
                      </a:solidFill>
                    </a:lnL>
                    <a:lnR w="720">
                      <a:solidFill>
                        <a:srgbClr val="003366"/>
                      </a:solidFill>
                    </a:lnR>
                    <a:lnT w="720">
                      <a:solidFill>
                        <a:srgbClr val="003366"/>
                      </a:solidFill>
                    </a:lnT>
                    <a:lnB w="72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32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색깔변경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3366"/>
                      </a:solidFill>
                    </a:lnL>
                    <a:lnR w="720">
                      <a:solidFill>
                        <a:srgbClr val="003366"/>
                      </a:solidFill>
                    </a:lnR>
                    <a:lnT w="720">
                      <a:solidFill>
                        <a:srgbClr val="003366"/>
                      </a:solidFill>
                    </a:lnT>
                    <a:lnB w="72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37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열팽창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720">
                      <a:solidFill>
                        <a:srgbClr val="003366"/>
                      </a:solidFill>
                    </a:lnT>
                    <a:lnB w="72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35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23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피드백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720">
                      <a:solidFill>
                        <a:srgbClr val="003366"/>
                      </a:solidFill>
                    </a:lnR>
                    <a:lnT w="720">
                      <a:solidFill>
                        <a:srgbClr val="003366"/>
                      </a:solidFill>
                    </a:lnT>
                    <a:lnB w="72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28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기계 시스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  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템의 대체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3366"/>
                      </a:solidFill>
                    </a:lnL>
                    <a:lnR w="720">
                      <a:solidFill>
                        <a:srgbClr val="003366"/>
                      </a:solidFill>
                    </a:lnR>
                    <a:lnT w="720">
                      <a:solidFill>
                        <a:srgbClr val="003366"/>
                      </a:solidFill>
                    </a:lnT>
                    <a:lnB w="72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33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동질성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3366"/>
                      </a:solidFill>
                    </a:lnL>
                    <a:lnR w="720">
                      <a:solidFill>
                        <a:srgbClr val="003366"/>
                      </a:solidFill>
                    </a:lnR>
                    <a:lnT w="720">
                      <a:solidFill>
                        <a:srgbClr val="003366"/>
                      </a:solidFill>
                    </a:lnT>
                    <a:lnB w="72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38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산화가속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720">
                      <a:solidFill>
                        <a:srgbClr val="003366"/>
                      </a:solidFill>
                    </a:lnT>
                    <a:lnB w="72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24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매개체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720">
                      <a:solidFill>
                        <a:srgbClr val="003366"/>
                      </a:solidFill>
                    </a:lnR>
                    <a:lnT w="720">
                      <a:solidFill>
                        <a:srgbClr val="003366"/>
                      </a:solidFill>
                    </a:lnT>
                    <a:lnB w="72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29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공기식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/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 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수압식구조물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3366"/>
                      </a:solidFill>
                    </a:lnL>
                    <a:lnR w="720">
                      <a:solidFill>
                        <a:srgbClr val="003366"/>
                      </a:solidFill>
                    </a:lnR>
                    <a:lnT w="720">
                      <a:solidFill>
                        <a:srgbClr val="003366"/>
                      </a:solidFill>
                    </a:lnT>
                    <a:lnB w="72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34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폐기 및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  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재생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3366"/>
                      </a:solidFill>
                    </a:lnL>
                    <a:lnR w="720">
                      <a:solidFill>
                        <a:srgbClr val="003366"/>
                      </a:solidFill>
                    </a:lnR>
                    <a:lnT w="720">
                      <a:solidFill>
                        <a:srgbClr val="003366"/>
                      </a:solidFill>
                    </a:lnT>
                    <a:lnB w="72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39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불활성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   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환경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720">
                      <a:solidFill>
                        <a:srgbClr val="003366"/>
                      </a:solidFill>
                    </a:lnT>
                    <a:lnB w="72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25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셀프서비스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720">
                      <a:solidFill>
                        <a:srgbClr val="003366"/>
                      </a:solidFill>
                    </a:lnR>
                    <a:lnT w="72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30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유연한 막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/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얇은 필름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3366"/>
                      </a:solidFill>
                    </a:lnL>
                    <a:lnR w="720">
                      <a:solidFill>
                        <a:srgbClr val="003366"/>
                      </a:solidFill>
                    </a:lnR>
                    <a:lnT w="72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35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속성변환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3366"/>
                      </a:solidFill>
                    </a:lnL>
                    <a:lnR w="720">
                      <a:solidFill>
                        <a:srgbClr val="003366"/>
                      </a:solidFill>
                    </a:lnR>
                    <a:lnT w="72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40.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복합재료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72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0" y="454356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2F5AD-BC2A-41A0-B84A-AE6B61F0937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견출고딕"/>
              </a:rPr>
              <a:t>목    차</a:t>
            </a:r>
            <a:endParaRPr b="0" lang="en-US" sz="4400" spc="-1" strike="noStrike">
              <a:solidFill>
                <a:srgbClr val="000000"/>
              </a:solidFill>
              <a:latin typeface="휴먼견출고딕"/>
            </a:endParaRPr>
          </a:p>
        </p:txBody>
      </p:sp>
      <p:sp>
        <p:nvSpPr>
          <p:cNvPr id="95" name=""/>
          <p:cNvSpPr/>
          <p:nvPr/>
        </p:nvSpPr>
        <p:spPr>
          <a:xfrm>
            <a:off x="1835280" y="1743120"/>
            <a:ext cx="5410080" cy="533520"/>
          </a:xfrm>
          <a:prstGeom prst="roundRect">
            <a:avLst>
              <a:gd name="adj" fmla="val 27681"/>
            </a:avLst>
          </a:prstGeom>
          <a:gradFill rotWithShape="0">
            <a:gsLst>
              <a:gs pos="0">
                <a:srgbClr val="ffffff"/>
              </a:gs>
              <a:gs pos="100000">
                <a:srgbClr val="ffb469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TRIZ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의 정의 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기원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28800" y="2535120"/>
            <a:ext cx="5410080" cy="533520"/>
          </a:xfrm>
          <a:prstGeom prst="roundRect">
            <a:avLst>
              <a:gd name="adj" fmla="val 25597"/>
            </a:avLst>
          </a:prstGeom>
          <a:gradFill rotWithShape="0">
            <a:gsLst>
              <a:gs pos="0">
                <a:srgbClr val="ffffff"/>
              </a:gs>
              <a:gs pos="100000">
                <a:srgbClr val="ffb469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TRIZ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의 국내외 동향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35280" y="3429000"/>
            <a:ext cx="5410080" cy="533520"/>
          </a:xfrm>
          <a:prstGeom prst="roundRect">
            <a:avLst>
              <a:gd name="adj" fmla="val 21431"/>
            </a:avLst>
          </a:prstGeom>
          <a:gradFill rotWithShape="0">
            <a:gsLst>
              <a:gs pos="0">
                <a:srgbClr val="ffffff"/>
              </a:gs>
              <a:gs pos="100000">
                <a:srgbClr val="ffb469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TRIZ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의 특징과 여러 원리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요개념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4191120"/>
            <a:ext cx="5410080" cy="533160"/>
          </a:xfrm>
          <a:prstGeom prst="roundRect">
            <a:avLst>
              <a:gd name="adj" fmla="val 25296"/>
            </a:avLst>
          </a:prstGeom>
          <a:gradFill rotWithShape="0">
            <a:gsLst>
              <a:gs pos="0">
                <a:srgbClr val="ffffff"/>
              </a:gs>
              <a:gs pos="100000">
                <a:srgbClr val="ffb469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공학분야에서의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TRIZ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활용사례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835280" y="4941720"/>
            <a:ext cx="5410080" cy="533520"/>
          </a:xfrm>
          <a:prstGeom prst="roundRect">
            <a:avLst>
              <a:gd name="adj" fmla="val 25296"/>
            </a:avLst>
          </a:prstGeom>
          <a:gradFill rotWithShape="0">
            <a:gsLst>
              <a:gs pos="0">
                <a:srgbClr val="ffffff"/>
              </a:gs>
              <a:gs pos="100000">
                <a:srgbClr val="ffb469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비공학분야에서의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TRIZ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활용사례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835280" y="5703840"/>
            <a:ext cx="5410080" cy="533520"/>
          </a:xfrm>
          <a:prstGeom prst="roundRect">
            <a:avLst>
              <a:gd name="adj" fmla="val 27681"/>
            </a:avLst>
          </a:prstGeom>
          <a:gradFill rotWithShape="0">
            <a:gsLst>
              <a:gs pos="0">
                <a:srgbClr val="ffffff"/>
              </a:gs>
              <a:gs pos="100000">
                <a:srgbClr val="ffb469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앞으로의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TRIZ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B8E1A-3677-44C8-8FD7-9B718B6BFAE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98680" y="247680"/>
            <a:ext cx="7806960" cy="10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휴먼견출고딕"/>
              </a:rPr>
              <a:t>TRIZ</a:t>
            </a:r>
            <a:r>
              <a:rPr b="0" lang="ko-KR" sz="4400" spc="-1" strike="noStrike">
                <a:solidFill>
                  <a:srgbClr val="000000"/>
                </a:solidFill>
                <a:latin typeface="휴먼견출고딕"/>
              </a:rPr>
              <a:t>의 적용 원리</a:t>
            </a:r>
            <a:endParaRPr b="0" lang="en-US" sz="4400" spc="-1" strike="noStrike">
              <a:solidFill>
                <a:srgbClr val="000000"/>
              </a:solidFill>
              <a:latin typeface="휴먼견출고딕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684000" y="1628640"/>
            <a:ext cx="80643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241996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분리의 원리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Separation Principle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24199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물리적 모순을 타협하지 않고 해결하기 위한 원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24199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복수의 관점에서 분리의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가지 원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241996"/>
              </a:buClr>
              <a:buFont typeface="굴림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공간에 의한 분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241996"/>
              </a:buClr>
              <a:buFont typeface="굴림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시간에 의한 분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241996"/>
              </a:buClr>
              <a:buFont typeface="굴림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부분과 전체에 의한 분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241996"/>
              </a:buClr>
              <a:buFont typeface="굴림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조건에 의한 분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24199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기술적 모순 해결방법과 관련 지어 활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EAAF1-99F7-40FC-92B0-F738A32E0D3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685800" y="1828800"/>
            <a:ext cx="8137080" cy="4463640"/>
            <a:chOff x="685800" y="1828800"/>
            <a:chExt cx="8137080" cy="4463640"/>
          </a:xfrm>
        </p:grpSpPr>
        <p:sp>
          <p:nvSpPr>
            <p:cNvPr id="189" name=""/>
            <p:cNvSpPr/>
            <p:nvPr/>
          </p:nvSpPr>
          <p:spPr>
            <a:xfrm>
              <a:off x="2590920" y="2816280"/>
              <a:ext cx="4510080" cy="2558880"/>
            </a:xfrm>
            <a:prstGeom prst="ellipse">
              <a:avLst/>
            </a:prstGeom>
            <a:solidFill>
              <a:srgbClr val="c0c0c0">
                <a:alpha val="3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90" name=""/>
            <p:cNvGrpSpPr/>
            <p:nvPr/>
          </p:nvGrpSpPr>
          <p:grpSpPr>
            <a:xfrm>
              <a:off x="685800" y="3730680"/>
              <a:ext cx="8137080" cy="658440"/>
              <a:chOff x="685800" y="3730680"/>
              <a:chExt cx="8137080" cy="658440"/>
            </a:xfrm>
          </p:grpSpPr>
          <p:sp>
            <p:nvSpPr>
              <p:cNvPr id="191" name=""/>
              <p:cNvSpPr/>
              <p:nvPr/>
            </p:nvSpPr>
            <p:spPr>
              <a:xfrm>
                <a:off x="685800" y="3730680"/>
                <a:ext cx="1371600" cy="6584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3366"/>
                </a:solidFill>
                <a:miter/>
              </a:ln>
              <a:effectLst>
                <a:outerShdw dist="109184" dir="3271692" blurRad="0" rotWithShape="0">
                  <a:srgbClr val="66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3366"/>
                    </a:solidFill>
                    <a:latin typeface="굴림"/>
                    <a:ea typeface="굴림"/>
                  </a:rPr>
                  <a:t>창의적 문제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451280" y="3730680"/>
                <a:ext cx="1371600" cy="6584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3366"/>
                </a:solidFill>
                <a:miter/>
              </a:ln>
              <a:effectLst>
                <a:outerShdw dist="109184" dir="3271692" blurRad="0" rotWithShape="0">
                  <a:srgbClr val="66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3366"/>
                    </a:solidFill>
                    <a:latin typeface="굴림"/>
                    <a:ea typeface="굴림"/>
                  </a:rPr>
                  <a:t>해   결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2390760" y="1828800"/>
              <a:ext cx="4509720" cy="4463640"/>
              <a:chOff x="2390760" y="1828800"/>
              <a:chExt cx="4509720" cy="4463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390760" y="1828800"/>
                <a:ext cx="1306800" cy="5853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  <a:effectLst>
                <a:outerShdw dist="99192" dir="2381944" blurRad="0" rotWithShape="0">
                  <a:srgbClr val="66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3366"/>
                    </a:solidFill>
                    <a:latin typeface="굴림"/>
                    <a:ea typeface="굴림"/>
                  </a:rPr>
                  <a:t>40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굴림"/>
                    <a:ea typeface="굴림"/>
                  </a:rPr>
                  <a:t>가지 원리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593680" y="1828800"/>
                <a:ext cx="1306800" cy="5853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  <a:effectLst>
                <a:outerShdw dist="99192" dir="2381944" blurRad="0" rotWithShape="0">
                  <a:srgbClr val="66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3366"/>
                    </a:solidFill>
                    <a:latin typeface="굴림"/>
                    <a:ea typeface="굴림"/>
                  </a:rPr>
                  <a:t>분리의 원리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390760" y="5707080"/>
                <a:ext cx="1306800" cy="5853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  <a:effectLst>
                <a:outerShdw dist="99192" dir="2381944" blurRad="0" rotWithShape="0">
                  <a:srgbClr val="66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3366"/>
                    </a:solidFill>
                    <a:latin typeface="굴림"/>
                    <a:ea typeface="굴림"/>
                  </a:rPr>
                  <a:t>진화의 패턴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593680" y="5707080"/>
                <a:ext cx="1306800" cy="5853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  <a:effectLst>
                <a:outerShdw dist="99192" dir="2381944" blurRad="0" rotWithShape="0">
                  <a:srgbClr val="66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3366"/>
                    </a:solidFill>
                    <a:latin typeface="굴림"/>
                    <a:ea typeface="굴림"/>
                  </a:rPr>
                  <a:t>물질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굴림"/>
                    <a:ea typeface="굴림"/>
                  </a:rPr>
                  <a:t>-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굴림"/>
                    <a:ea typeface="굴림"/>
                  </a:rPr>
                  <a:t>장분석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3824280" y="2487600"/>
              <a:ext cx="180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66"/>
                  </a:solidFill>
                  <a:latin typeface="굴림"/>
                  <a:ea typeface="굴림"/>
                </a:rPr>
                <a:t>SYSTEM</a:t>
              </a: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3176640" y="5194080"/>
              <a:ext cx="457200" cy="439560"/>
            </a:xfrm>
            <a:prstGeom prst="line">
              <a:avLst/>
            </a:prstGeom>
            <a:ln w="572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5659560" y="2414520"/>
              <a:ext cx="457200" cy="439920"/>
            </a:xfrm>
            <a:prstGeom prst="line">
              <a:avLst/>
            </a:prstGeom>
            <a:ln w="572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5725800" y="5268600"/>
              <a:ext cx="392040" cy="439560"/>
            </a:xfrm>
            <a:prstGeom prst="line">
              <a:avLst/>
            </a:prstGeom>
            <a:ln w="572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110040" y="2414520"/>
              <a:ext cx="393480" cy="511200"/>
            </a:xfrm>
            <a:prstGeom prst="line">
              <a:avLst/>
            </a:prstGeom>
            <a:ln w="572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995640" y="4005360"/>
              <a:ext cx="30492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7097760" y="4006440"/>
              <a:ext cx="353880" cy="17640"/>
            </a:xfrm>
            <a:prstGeom prst="line">
              <a:avLst/>
            </a:prstGeom>
            <a:ln w="572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124000" y="3805200"/>
              <a:ext cx="595440" cy="438120"/>
            </a:xfrm>
            <a:prstGeom prst="rightArrow">
              <a:avLst>
                <a:gd name="adj1" fmla="val 50000"/>
                <a:gd name="adj2" fmla="val 33977"/>
              </a:avLst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91320" y="3807000"/>
              <a:ext cx="1155600" cy="509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3366"/>
                  </a:solidFill>
                  <a:latin typeface="굴림"/>
                  <a:ea typeface="굴림"/>
                </a:rPr>
                <a:t>자   원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343400" y="3807000"/>
              <a:ext cx="1155600" cy="509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3366"/>
                  </a:solidFill>
                  <a:latin typeface="굴림"/>
                  <a:ea typeface="굴림"/>
                </a:rPr>
                <a:t>모   순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743200" y="3807000"/>
              <a:ext cx="121932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3366"/>
                  </a:solidFill>
                  <a:latin typeface="굴림"/>
                  <a:ea typeface="굴림"/>
                </a:rPr>
                <a:t>이상적 결과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08720" y="4005360"/>
              <a:ext cx="30456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0C68D-82CF-42A1-A953-B2FAF4C8E64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98680" y="247680"/>
            <a:ext cx="7806960" cy="10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휴먼견출고딕"/>
              </a:rPr>
              <a:t>TRIZ</a:t>
            </a:r>
            <a:r>
              <a:rPr b="0" lang="ko-KR" sz="4400" spc="-1" strike="noStrike">
                <a:solidFill>
                  <a:srgbClr val="000000"/>
                </a:solidFill>
                <a:latin typeface="휴먼견출고딕"/>
              </a:rPr>
              <a:t>의 우수성</a:t>
            </a:r>
            <a:endParaRPr b="0" lang="en-US" sz="4400" spc="-1" strike="noStrike">
              <a:solidFill>
                <a:srgbClr val="000000"/>
              </a:solidFill>
              <a:latin typeface="휴먼견출고딕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755640" y="1700280"/>
            <a:ext cx="8064360" cy="4608360"/>
            <a:chOff x="755640" y="1700280"/>
            <a:chExt cx="8064360" cy="4608360"/>
          </a:xfrm>
        </p:grpSpPr>
        <p:sp>
          <p:nvSpPr>
            <p:cNvPr id="212" name=""/>
            <p:cNvSpPr/>
            <p:nvPr/>
          </p:nvSpPr>
          <p:spPr>
            <a:xfrm>
              <a:off x="3284640" y="5132520"/>
              <a:ext cx="3076560" cy="1176120"/>
            </a:xfrm>
            <a:prstGeom prst="ellipse">
              <a:avLst/>
            </a:prstGeom>
            <a:noFill/>
            <a:ln w="255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0000"/>
                  </a:solidFill>
                  <a:latin typeface="굴림"/>
                  <a:ea typeface="굴림"/>
                </a:rPr>
                <a:t>“ </a:t>
              </a:r>
              <a:r>
                <a:rPr b="1" lang="ko-KR" sz="2000" spc="-1" strike="noStrike">
                  <a:solidFill>
                    <a:srgbClr val="ff0000"/>
                  </a:solidFill>
                  <a:latin typeface="굴림"/>
                  <a:ea typeface="굴림"/>
                </a:rPr>
                <a:t>트리즈는 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0000"/>
                  </a:solidFill>
                  <a:latin typeface="굴림"/>
                  <a:ea typeface="굴림"/>
                </a:rPr>
                <a:t>창의적 문제해결의 표준화된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0000"/>
                  </a:solidFill>
                  <a:latin typeface="굴림"/>
                  <a:ea typeface="굴림"/>
                </a:rPr>
                <a:t> ‘</a:t>
              </a:r>
              <a:r>
                <a:rPr b="1" lang="ko-KR" sz="2400" spc="-1" strike="noStrike">
                  <a:solidFill>
                    <a:srgbClr val="ff0000"/>
                  </a:solidFill>
                  <a:latin typeface="굴림"/>
                  <a:ea typeface="굴림"/>
                </a:rPr>
                <a:t>툴</a:t>
              </a:r>
              <a:r>
                <a:rPr b="1" lang="ko-KR" sz="2000" spc="-1" strike="noStrike">
                  <a:solidFill>
                    <a:srgbClr val="ff0000"/>
                  </a:solidFill>
                  <a:latin typeface="굴림"/>
                  <a:ea typeface="굴림"/>
                </a:rPr>
                <a:t>’을 제공한다 ”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pic>
          <p:nvPicPr>
            <p:cNvPr id="213" name="" descr=""/>
            <p:cNvPicPr/>
            <p:nvPr/>
          </p:nvPicPr>
          <p:blipFill>
            <a:blip r:embed="rId1"/>
            <a:stretch/>
          </p:blipFill>
          <p:spPr>
            <a:xfrm>
              <a:off x="3689280" y="4816440"/>
              <a:ext cx="2425680" cy="4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 txBox="1"/>
            <p:nvPr/>
          </p:nvSpPr>
          <p:spPr>
            <a:xfrm>
              <a:off x="4083120" y="5091120"/>
              <a:ext cx="1581120" cy="384120"/>
            </a:xfrm>
            <a:prstGeom prst="rect">
              <a:avLst/>
            </a:prstGeom>
          </p:spPr>
          <p:txBody>
            <a:bodyPr wrap="none" fromWordArt="1" lIns="90000" rIns="90000" tIns="46800" bIns="46800" anchor="ctr" anchorCtr="1">
              <a:prstTxWarp prst="textArchUp">
                <a:avLst>
                  <a:gd name="adj" fmla="val 1258508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3366"/>
                    </a:solidFill>
                    <a:miter/>
                  </a:ln>
                  <a:solidFill>
                    <a:srgbClr val="000000"/>
                  </a:solidFill>
                  <a:latin typeface="한컴바탕확장"/>
                </a:rPr>
                <a:t>TRIZ</a:t>
              </a:r>
              <a:endParaRPr b="1" lang="en-US" sz="18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000000"/>
                </a:solidFill>
                <a:latin typeface="한컴바탕확장"/>
                <a:ea typeface="한컴바탕확장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786200" y="4149720"/>
              <a:ext cx="1800" cy="528480"/>
            </a:xfrm>
            <a:prstGeom prst="line">
              <a:avLst/>
            </a:prstGeom>
            <a:ln w="12060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5965560" y="4362120"/>
              <a:ext cx="381600" cy="454680"/>
            </a:xfrm>
            <a:prstGeom prst="line">
              <a:avLst/>
            </a:prstGeom>
            <a:ln w="12060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299040" y="4475160"/>
              <a:ext cx="457920" cy="356760"/>
            </a:xfrm>
            <a:prstGeom prst="line">
              <a:avLst/>
            </a:prstGeom>
            <a:ln w="12060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443640" y="2522520"/>
              <a:ext cx="2376360" cy="169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1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“</a:t>
              </a:r>
              <a:r>
                <a:rPr b="0" lang="ko-KR" sz="16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남들이 하지 않고 경쟁이 적은 새로운 영역에서  사업을 하라</a:t>
              </a:r>
              <a:r>
                <a:rPr b="0" lang="ko-KR" sz="16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!”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 </a:t>
              </a:r>
              <a:r>
                <a:rPr b="1" lang="ko-KR" sz="1600" spc="-1" strike="noStrike">
                  <a:solidFill>
                    <a:srgbClr val="3333cc"/>
                  </a:solidFill>
                  <a:latin typeface="굴림"/>
                  <a:ea typeface="굴림"/>
                </a:rPr>
                <a:t>《 블루오션을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3333cc"/>
                  </a:solidFill>
                  <a:latin typeface="굴림"/>
                  <a:ea typeface="굴림"/>
                </a:rPr>
                <a:t> </a:t>
              </a:r>
              <a:r>
                <a:rPr b="1" lang="ko-KR" sz="1600" spc="-1" strike="noStrike">
                  <a:solidFill>
                    <a:srgbClr val="3333cc"/>
                  </a:solidFill>
                  <a:latin typeface="굴림"/>
                  <a:ea typeface="굴림"/>
                </a:rPr>
                <a:t>찾는 방법 미제시 》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381720" y="1989000"/>
              <a:ext cx="2424240" cy="476280"/>
            </a:xfrm>
            <a:prstGeom prst="rect">
              <a:avLst/>
            </a:prstGeom>
            <a:solidFill>
              <a:srgbClr val="cc66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블루오션 전략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81720" y="1989000"/>
              <a:ext cx="2424240" cy="1800"/>
            </a:xfrm>
            <a:prstGeom prst="line">
              <a:avLst/>
            </a:prstGeom>
            <a:ln cap="sq"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81720" y="2463840"/>
              <a:ext cx="2424240" cy="144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381720" y="4164120"/>
              <a:ext cx="2424240" cy="1440"/>
            </a:xfrm>
            <a:prstGeom prst="line">
              <a:avLst/>
            </a:prstGeom>
            <a:ln cap="sq"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381720" y="1989000"/>
              <a:ext cx="1440" cy="2179800"/>
            </a:xfrm>
            <a:prstGeom prst="line">
              <a:avLst/>
            </a:prstGeom>
            <a:ln cap="sq"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805960" y="1989000"/>
              <a:ext cx="0" cy="2179800"/>
            </a:xfrm>
            <a:prstGeom prst="line">
              <a:avLst/>
            </a:prstGeom>
            <a:ln cap="sq"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3508200" y="1700280"/>
              <a:ext cx="2638440" cy="2376360"/>
              <a:chOff x="3508200" y="1700280"/>
              <a:chExt cx="2638440" cy="2376360"/>
            </a:xfrm>
          </p:grpSpPr>
          <p:sp>
            <p:nvSpPr>
              <p:cNvPr id="226" name=""/>
              <p:cNvSpPr/>
              <p:nvPr/>
            </p:nvSpPr>
            <p:spPr>
              <a:xfrm>
                <a:off x="3508200" y="2163240"/>
                <a:ext cx="2638440" cy="178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1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굴림"/>
                    <a:ea typeface="굴림"/>
                  </a:rPr>
                  <a:t>구성원의 자유발언을 통한 아이디어 제시를 요구하여 발상을 찾는 방법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600" spc="-1" strike="noStrike">
                    <a:solidFill>
                      <a:srgbClr val="3333cc"/>
                    </a:solidFill>
                    <a:latin typeface="굴림"/>
                    <a:ea typeface="굴림"/>
                  </a:rPr>
                  <a:t>《문제 해결의 아이디어만 제공 </a:t>
                </a:r>
                <a:r>
                  <a:rPr b="1" lang="ko-KR" sz="1600" spc="-1" strike="noStrike">
                    <a:solidFill>
                      <a:srgbClr val="3333cc"/>
                    </a:solidFill>
                    <a:latin typeface="굴림"/>
                    <a:ea typeface="굴림"/>
                  </a:rPr>
                  <a:t>&amp; </a:t>
                </a:r>
                <a:r>
                  <a:rPr b="1" lang="ko-KR" sz="1600" spc="-1" strike="noStrike">
                    <a:solidFill>
                      <a:srgbClr val="3333cc"/>
                    </a:solidFill>
                    <a:latin typeface="굴림"/>
                    <a:ea typeface="굴림"/>
                  </a:rPr>
                  <a:t>실제 문제 해결책 미제시 》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579480" y="1700280"/>
                <a:ext cx="2524680" cy="462960"/>
              </a:xfrm>
              <a:prstGeom prst="rect">
                <a:avLst/>
              </a:prstGeom>
              <a:solidFill>
                <a:srgbClr val="cc66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굴림"/>
                    <a:ea typeface="굴림"/>
                  </a:rPr>
                  <a:t>브레인스토밍</a:t>
                </a:r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579480" y="1700280"/>
                <a:ext cx="2524680" cy="0"/>
              </a:xfrm>
              <a:prstGeom prst="line">
                <a:avLst/>
              </a:prstGeom>
              <a:ln cap="sq"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579480" y="2163240"/>
                <a:ext cx="2524680" cy="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579480" y="4073760"/>
                <a:ext cx="2524680" cy="0"/>
              </a:xfrm>
              <a:prstGeom prst="line">
                <a:avLst/>
              </a:prstGeom>
              <a:ln cap="sq"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579480" y="1700280"/>
                <a:ext cx="1080" cy="2376360"/>
              </a:xfrm>
              <a:prstGeom prst="line">
                <a:avLst/>
              </a:prstGeom>
              <a:ln cap="sq"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6105600" y="1700280"/>
              <a:ext cx="1440" cy="2376360"/>
            </a:xfrm>
            <a:prstGeom prst="line">
              <a:avLst/>
            </a:prstGeom>
            <a:ln cap="sq"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755640" y="1700280"/>
              <a:ext cx="2682720" cy="2736720"/>
              <a:chOff x="755640" y="1700280"/>
              <a:chExt cx="2682720" cy="2736720"/>
            </a:xfrm>
          </p:grpSpPr>
          <p:sp>
            <p:nvSpPr>
              <p:cNvPr id="234" name=""/>
              <p:cNvSpPr/>
              <p:nvPr/>
            </p:nvSpPr>
            <p:spPr>
              <a:xfrm>
                <a:off x="755640" y="2167920"/>
                <a:ext cx="2682720" cy="225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1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굴림"/>
                    <a:ea typeface="굴림"/>
                  </a:rPr>
                  <a:t>통계적 방법을 통해 문제를 발견하고 최적화하는 데 큰 효과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600" spc="-1" strike="noStrike">
                    <a:solidFill>
                      <a:srgbClr val="3333cc"/>
                    </a:solidFill>
                    <a:latin typeface="굴림"/>
                    <a:ea typeface="굴림"/>
                  </a:rPr>
                  <a:t>《 문제를 해결하는 새로운 아이디어를 내는 구체적 방법론 미제시 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굴림"/>
                    <a:ea typeface="굴림"/>
                  </a:rPr>
                  <a:t>&amp;  </a:t>
                </a:r>
                <a:r>
                  <a:rPr b="1" lang="ko-KR" sz="1600" spc="-1" strike="noStrike">
                    <a:solidFill>
                      <a:srgbClr val="3333cc"/>
                    </a:solidFill>
                    <a:latin typeface="굴림"/>
                    <a:ea typeface="굴림"/>
                  </a:rPr>
                  <a:t>파악된 문제 해결책을 얻기 위해 트리즈와 결합 》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825480" y="1700280"/>
                <a:ext cx="2527200" cy="467640"/>
              </a:xfrm>
              <a:prstGeom prst="rect">
                <a:avLst/>
              </a:prstGeom>
              <a:solidFill>
                <a:srgbClr val="cc66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굴림"/>
                    <a:ea typeface="굴림"/>
                  </a:rPr>
                  <a:t>6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굴림"/>
                    <a:ea typeface="굴림"/>
                  </a:rPr>
                  <a:t>시그마</a:t>
                </a:r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825480" y="1700280"/>
                <a:ext cx="2527200" cy="0"/>
              </a:xfrm>
              <a:prstGeom prst="line">
                <a:avLst/>
              </a:prstGeom>
              <a:ln cap="sq"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825480" y="2167920"/>
                <a:ext cx="2527200" cy="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825480" y="4437000"/>
                <a:ext cx="2527200" cy="0"/>
              </a:xfrm>
              <a:prstGeom prst="line">
                <a:avLst/>
              </a:prstGeom>
              <a:ln cap="sq"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25480" y="1700280"/>
                <a:ext cx="1440" cy="2736720"/>
              </a:xfrm>
              <a:prstGeom prst="line">
                <a:avLst/>
              </a:prstGeom>
              <a:ln cap="sq"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352680" y="1700280"/>
                <a:ext cx="1080" cy="2736720"/>
              </a:xfrm>
              <a:prstGeom prst="line">
                <a:avLst/>
              </a:prstGeom>
              <a:ln cap="sq"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A37B8-4997-4A1F-96E7-0C303555CD2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휴먼견출고딕"/>
              </a:rPr>
              <a:t>TRIZ</a:t>
            </a:r>
            <a:r>
              <a:rPr b="0" lang="ko-KR" sz="4400" spc="-1" strike="noStrike">
                <a:solidFill>
                  <a:srgbClr val="000000"/>
                </a:solidFill>
                <a:latin typeface="휴먼견출고딕"/>
              </a:rPr>
              <a:t>의 역할</a:t>
            </a:r>
            <a:endParaRPr b="0" lang="en-US" sz="4400" spc="-1" strike="noStrike">
              <a:solidFill>
                <a:srgbClr val="000000"/>
              </a:solidFill>
              <a:latin typeface="휴먼견출고딕"/>
            </a:endParaRPr>
          </a:p>
        </p:txBody>
      </p:sp>
      <p:sp>
        <p:nvSpPr>
          <p:cNvPr id="242" name=""/>
          <p:cNvSpPr/>
          <p:nvPr/>
        </p:nvSpPr>
        <p:spPr>
          <a:xfrm>
            <a:off x="7020000" y="2203560"/>
            <a:ext cx="1971720" cy="3887640"/>
          </a:xfrm>
          <a:custGeom>
            <a:avLst/>
            <a:gdLst>
              <a:gd name="textAreaLeft" fmla="*/ 79200 w 1971720"/>
              <a:gd name="textAreaRight" fmla="*/ 1892520 w 1971720"/>
              <a:gd name="textAreaTop" fmla="*/ 79200 h 3887640"/>
              <a:gd name="textAreaBottom" fmla="*/ 3808440 h 3887640"/>
            </a:gdLst>
            <a:ahLst/>
            <a:rect l="textAreaLeft" t="textAreaTop" r="textAreaRight" b="textAreaBottom"/>
            <a:pathLst>
              <a:path w="21600" h="42585">
                <a:moveTo>
                  <a:pt x="2969" y="0"/>
                </a:moveTo>
                <a:arcTo wR="2969" hR="2969" stAng="16200000" swAng="-5400000"/>
                <a:lnTo>
                  <a:pt x="0" y="39616"/>
                </a:lnTo>
                <a:arcTo wR="2969" hR="2969" stAng="10800000" swAng="-5400000"/>
                <a:lnTo>
                  <a:pt x="18631" y="4258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03640" y="2203560"/>
            <a:ext cx="1873440" cy="3889440"/>
          </a:xfrm>
          <a:custGeom>
            <a:avLst/>
            <a:gdLst>
              <a:gd name="textAreaLeft" fmla="*/ 75240 w 1873440"/>
              <a:gd name="textAreaRight" fmla="*/ 1798200 w 1873440"/>
              <a:gd name="textAreaTop" fmla="*/ 75240 h 3889440"/>
              <a:gd name="textAreaBottom" fmla="*/ 3814200 h 3889440"/>
            </a:gdLst>
            <a:ahLst/>
            <a:rect l="textAreaLeft" t="textAreaTop" r="textAreaRight" b="textAreaBottom"/>
            <a:pathLst>
              <a:path w="21600" h="44839">
                <a:moveTo>
                  <a:pt x="2969" y="0"/>
                </a:moveTo>
                <a:arcTo wR="2969" hR="2969" stAng="16200000" swAng="-5400000"/>
                <a:lnTo>
                  <a:pt x="0" y="41870"/>
                </a:lnTo>
                <a:arcTo wR="2969" hR="2969" stAng="10800000" swAng="-5400000"/>
                <a:lnTo>
                  <a:pt x="18631" y="4483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916360" y="2203560"/>
            <a:ext cx="1942920" cy="3889440"/>
          </a:xfrm>
          <a:custGeom>
            <a:avLst/>
            <a:gdLst>
              <a:gd name="textAreaLeft" fmla="*/ 78120 w 1942920"/>
              <a:gd name="textAreaRight" fmla="*/ 1864800 w 1942920"/>
              <a:gd name="textAreaTop" fmla="*/ 78120 h 3889440"/>
              <a:gd name="textAreaBottom" fmla="*/ 3811320 h 3889440"/>
            </a:gdLst>
            <a:ahLst/>
            <a:rect l="textAreaLeft" t="textAreaTop" r="textAreaRight" b="textAreaBottom"/>
            <a:pathLst>
              <a:path w="21600" h="43236">
                <a:moveTo>
                  <a:pt x="2969" y="0"/>
                </a:moveTo>
                <a:arcTo wR="2969" hR="2969" stAng="16200000" swAng="-5400000"/>
                <a:lnTo>
                  <a:pt x="0" y="40267"/>
                </a:lnTo>
                <a:arcTo wR="2969" hR="2969" stAng="10800000" swAng="-5400000"/>
                <a:lnTo>
                  <a:pt x="18631" y="4323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55640" y="2203560"/>
            <a:ext cx="1974960" cy="3889440"/>
          </a:xfrm>
          <a:custGeom>
            <a:avLst/>
            <a:gdLst>
              <a:gd name="textAreaLeft" fmla="*/ 79200 w 1974960"/>
              <a:gd name="textAreaRight" fmla="*/ 1895760 w 1974960"/>
              <a:gd name="textAreaTop" fmla="*/ 79200 h 3889440"/>
              <a:gd name="textAreaBottom" fmla="*/ 3810240 h 3889440"/>
            </a:gdLst>
            <a:ahLst/>
            <a:rect l="textAreaLeft" t="textAreaTop" r="textAreaRight" b="textAreaBottom"/>
            <a:pathLst>
              <a:path w="21600" h="42535">
                <a:moveTo>
                  <a:pt x="2969" y="0"/>
                </a:moveTo>
                <a:arcTo wR="2969" hR="2969" stAng="16200000" swAng="-5400000"/>
                <a:lnTo>
                  <a:pt x="0" y="39566"/>
                </a:lnTo>
                <a:arcTo wR="2969" hR="2969" stAng="10800000" swAng="-5400000"/>
                <a:lnTo>
                  <a:pt x="18631" y="425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55640" y="2565360"/>
            <a:ext cx="2087640" cy="37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대 핵심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장동력산업의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견인차 역할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창의적 시스템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제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서비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발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발전방향예측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 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적 재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창출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916360" y="2421000"/>
            <a:ext cx="2160360" cy="38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과학 기술 경쟁력 제고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체계적인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식활용 및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창의적 사고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 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문제해결에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필요한 과학지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식 연계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신기술의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효과적인 개발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003640" y="2492280"/>
            <a:ext cx="2087640" cy="39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체계적인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창의성교육도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구 제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공학설계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교육의 활성화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 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학교발명교육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내실화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공계 대학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기피현상 해소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21440" y="2565360"/>
            <a:ext cx="2122560" cy="31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식기반 사회로의 능동적 이행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 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벤처 창업의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활성화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용 창출에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기여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년실업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문제해소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16000" y="1844640"/>
            <a:ext cx="1266840" cy="459720"/>
          </a:xfrm>
          <a:prstGeom prst="rect">
            <a:avLst/>
          </a:prstGeom>
          <a:solidFill>
            <a:srgbClr val="f79c15"/>
          </a:solidFill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산  업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132000" y="1844640"/>
            <a:ext cx="1441440" cy="459720"/>
          </a:xfrm>
          <a:prstGeom prst="rect">
            <a:avLst/>
          </a:prstGeom>
          <a:solidFill>
            <a:srgbClr val="f79c15"/>
          </a:solidFill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과학기술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292720" y="1844640"/>
            <a:ext cx="1295280" cy="459720"/>
          </a:xfrm>
          <a:prstGeom prst="rect">
            <a:avLst/>
          </a:prstGeom>
          <a:solidFill>
            <a:srgbClr val="f79c15"/>
          </a:solidFill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교   육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381800" y="1844640"/>
            <a:ext cx="1293840" cy="459720"/>
          </a:xfrm>
          <a:prstGeom prst="rect">
            <a:avLst/>
          </a:prstGeom>
          <a:solidFill>
            <a:srgbClr val="f79c15"/>
          </a:solidFill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사  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C9C4B-02C7-4BE8-A3DF-6AB475157B02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견출고딕"/>
              </a:rPr>
              <a:t>공학분야의 </a:t>
            </a:r>
            <a:r>
              <a:rPr b="0" lang="en-US" sz="4400" spc="-1" strike="noStrike">
                <a:solidFill>
                  <a:srgbClr val="000000"/>
                </a:solidFill>
                <a:latin typeface="휴먼견출고딕"/>
              </a:rPr>
              <a:t>TRIZ</a:t>
            </a:r>
            <a:endParaRPr b="0" lang="en-US" sz="4400" spc="-1" strike="noStrike">
              <a:solidFill>
                <a:srgbClr val="000000"/>
              </a:solidFill>
              <a:latin typeface="휴먼견출고딕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717480" y="2133720"/>
            <a:ext cx="8426520" cy="3671640"/>
            <a:chOff x="717480" y="2133720"/>
            <a:chExt cx="8426520" cy="3671640"/>
          </a:xfrm>
        </p:grpSpPr>
        <p:sp>
          <p:nvSpPr>
            <p:cNvPr id="256" name=""/>
            <p:cNvSpPr/>
            <p:nvPr/>
          </p:nvSpPr>
          <p:spPr>
            <a:xfrm>
              <a:off x="717480" y="2133720"/>
              <a:ext cx="8159760" cy="367164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ffffff"/>
              </a:solidFill>
              <a:miter/>
            </a:ln>
            <a:effectLst>
              <a:outerShdw dist="81185" dir="2321969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17480" y="4005360"/>
              <a:ext cx="8137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004760" y="2565360"/>
              <a:ext cx="3527640" cy="14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수행기능 및 특성의 개선 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새로운 유용기능의 도입 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유용한 기능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특성의 수행도 강화 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단점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결점의 제거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기술적 애로과제 해결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038560" y="2565360"/>
              <a:ext cx="3816360" cy="14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신제품 개발 기능대안의 개발 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전략적 특허장벽의 구축 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차세대 시스템 개념의 구현 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내외부 고객 만족의 실현 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새로운 제조공법 및 공정개발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000080" y="4508640"/>
              <a:ext cx="4038480" cy="11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차세대 제품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시스템에 대한 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개념 설계 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제조공정에 대한 개념적  시나리오 제시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시장점유율 확대를 위한 개념적 제안</a:t>
              </a:r>
              <a:r>
                <a:rPr b="0" lang="ko-KR" sz="1600" spc="-1" strike="noStrike">
                  <a:solidFill>
                    <a:srgbClr val="ffffff"/>
                  </a:solidFill>
                  <a:latin typeface="Arial"/>
                  <a:ea typeface="굴림"/>
                </a:rPr>
                <a:t>  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162400" y="4363920"/>
              <a:ext cx="3259080" cy="45720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27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089320" y="4292640"/>
              <a:ext cx="3116520" cy="45720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27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038560" y="4508640"/>
              <a:ext cx="4105440" cy="11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향후 발생 가능한 극한상황의 대책 제시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환경영향 문제 해결 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제품 생산 과정 중의 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         </a:t>
              </a:r>
              <a:r>
                <a:rPr b="0" lang="ko-KR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	</a:t>
              </a:r>
              <a:r>
                <a:rPr b="0" lang="ko-KR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발생 가능한 문제 설계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933480" y="2133720"/>
              <a:ext cx="2879640" cy="360360"/>
            </a:xfrm>
            <a:prstGeom prst="rect">
              <a:avLst/>
            </a:prstGeom>
            <a:solidFill>
              <a:srgbClr val="8dbb6b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제품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/ </a:t>
              </a:r>
              <a:r>
                <a:rPr b="1" lang="ko-KR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시스템의 개선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181480" y="2133720"/>
              <a:ext cx="3168720" cy="358560"/>
            </a:xfrm>
            <a:prstGeom prst="rect">
              <a:avLst/>
            </a:prstGeom>
            <a:solidFill>
              <a:srgbClr val="8dbb6b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신제품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/ </a:t>
              </a:r>
              <a:r>
                <a:rPr b="1" lang="ko-KR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시스템의 개발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933480" y="4005360"/>
              <a:ext cx="3671640" cy="360360"/>
            </a:xfrm>
            <a:prstGeom prst="rect">
              <a:avLst/>
            </a:prstGeom>
            <a:solidFill>
              <a:srgbClr val="8dbb6b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제품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/ </a:t>
              </a:r>
              <a:r>
                <a:rPr b="1" lang="ko-KR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시스템의 미래 비전 제시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894200" y="2205000"/>
              <a:ext cx="0" cy="3600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894200" y="4005360"/>
              <a:ext cx="3960720" cy="360360"/>
            </a:xfrm>
            <a:prstGeom prst="rect">
              <a:avLst/>
            </a:prstGeom>
            <a:solidFill>
              <a:srgbClr val="8dbb6b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Arial"/>
                  <a:ea typeface="굴림"/>
                </a:rPr>
                <a:t>제품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굴림"/>
                </a:rPr>
                <a:t>/ </a:t>
              </a:r>
              <a:r>
                <a:rPr b="1" lang="ko-KR" sz="1800" spc="-1" strike="noStrike">
                  <a:solidFill>
                    <a:srgbClr val="000000"/>
                  </a:solidFill>
                  <a:latin typeface="Arial"/>
                  <a:ea typeface="굴림"/>
                </a:rPr>
                <a:t>시스템의 향후 발생 가능문제제거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E494C-1807-4AC8-ADD6-04D35D09DA8B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견출고딕"/>
              </a:rPr>
              <a:t>공학 분야의 </a:t>
            </a:r>
            <a:r>
              <a:rPr b="0" lang="en-US" sz="4400" spc="-1" strike="noStrike">
                <a:solidFill>
                  <a:srgbClr val="000000"/>
                </a:solidFill>
                <a:latin typeface="휴먼견출고딕"/>
              </a:rPr>
              <a:t>TRIZ</a:t>
            </a:r>
            <a:r>
              <a:rPr b="0" lang="ko-KR" sz="4400" spc="-1" strike="noStrike">
                <a:solidFill>
                  <a:srgbClr val="000000"/>
                </a:solidFill>
                <a:latin typeface="휴먼견출고딕"/>
              </a:rPr>
              <a:t> </a:t>
            </a:r>
            <a:r>
              <a:rPr b="0" lang="ko-KR" sz="4400" spc="-1" strike="noStrike">
                <a:solidFill>
                  <a:srgbClr val="000000"/>
                </a:solidFill>
                <a:latin typeface="휴먼견출고딕"/>
              </a:rPr>
              <a:t>사례</a:t>
            </a:r>
            <a:endParaRPr b="0" lang="en-US" sz="4400" spc="-1" strike="noStrike">
              <a:solidFill>
                <a:srgbClr val="000000"/>
              </a:solidFill>
              <a:latin typeface="휴먼견출고딕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4000" y="2033280"/>
            <a:ext cx="8459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241996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일반적 사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24199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텐트의 형상을 유지하기 위해 알루미늄 또는 플라스틱 재질의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폴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(pole)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이 필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24199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폴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(pole)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을 슬리브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(sleeve)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에 일일이 끼워 설치함으로써 시간 낭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24199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폴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(pole)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의 분실이나 파손의 불편함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241996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물리적 모순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1116000" y="4796280"/>
            <a:ext cx="7056360" cy="704880"/>
            <a:chOff x="1116000" y="4796280"/>
            <a:chExt cx="7056360" cy="704880"/>
          </a:xfrm>
        </p:grpSpPr>
        <p:sp>
          <p:nvSpPr>
            <p:cNvPr id="272" name=""/>
            <p:cNvSpPr/>
            <p:nvPr/>
          </p:nvSpPr>
          <p:spPr>
            <a:xfrm>
              <a:off x="1116000" y="4796280"/>
              <a:ext cx="3095640" cy="7038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  <a:effectLst>
              <a:outerShdw dist="107932" dir="27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3366"/>
                  </a:solidFill>
                  <a:latin typeface="굴림"/>
                  <a:ea typeface="굴림"/>
                </a:rPr>
                <a:t>편리함을 위해서는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3366"/>
                  </a:solidFill>
                  <a:latin typeface="굴림"/>
                  <a:ea typeface="굴림"/>
                </a:rPr>
                <a:t>폴</a:t>
              </a:r>
              <a:r>
                <a:rPr b="0" lang="en-US" sz="2000" spc="-1" strike="noStrike">
                  <a:solidFill>
                    <a:srgbClr val="003366"/>
                  </a:solidFill>
                  <a:latin typeface="굴림"/>
                  <a:ea typeface="굴림"/>
                </a:rPr>
                <a:t>(pole)</a:t>
              </a:r>
              <a:r>
                <a:rPr b="0" lang="ko-KR" sz="2000" spc="-1" strike="noStrike">
                  <a:solidFill>
                    <a:srgbClr val="003366"/>
                  </a:solidFill>
                  <a:latin typeface="굴림"/>
                  <a:ea typeface="굴림"/>
                </a:rPr>
                <a:t>이 없어야 한다</a:t>
              </a:r>
              <a:r>
                <a:rPr b="0" lang="en-US" sz="2000" spc="-1" strike="noStrike">
                  <a:solidFill>
                    <a:srgbClr val="003366"/>
                  </a:solidFill>
                  <a:latin typeface="굴림"/>
                  <a:ea typeface="굴림"/>
                </a:rPr>
                <a:t>.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148360" y="4797360"/>
              <a:ext cx="3024000" cy="703800"/>
            </a:xfrm>
            <a:prstGeom prst="rect">
              <a:avLst/>
            </a:prstGeom>
            <a:solidFill>
              <a:srgbClr val="99cc99"/>
            </a:solidFill>
            <a:ln w="38160">
              <a:solidFill>
                <a:srgbClr val="99cc99"/>
              </a:solidFill>
              <a:miter/>
            </a:ln>
            <a:effectLst>
              <a:outerShdw dist="107932" dir="27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3366"/>
                  </a:solidFill>
                  <a:latin typeface="굴림"/>
                  <a:ea typeface="굴림"/>
                </a:rPr>
                <a:t>공간을 만들기 위해서는 폴</a:t>
              </a:r>
              <a:r>
                <a:rPr b="0" lang="en-US" sz="2000" spc="-1" strike="noStrike">
                  <a:solidFill>
                    <a:srgbClr val="003366"/>
                  </a:solidFill>
                  <a:latin typeface="굴림"/>
                  <a:ea typeface="굴림"/>
                </a:rPr>
                <a:t>(pole)</a:t>
              </a:r>
              <a:r>
                <a:rPr b="0" lang="ko-KR" sz="2000" spc="-1" strike="noStrike">
                  <a:solidFill>
                    <a:srgbClr val="003366"/>
                  </a:solidFill>
                  <a:latin typeface="굴림"/>
                  <a:ea typeface="굴림"/>
                </a:rPr>
                <a:t>이 있어야 한다</a:t>
              </a:r>
              <a:r>
                <a:rPr b="0" lang="en-US" sz="2000" spc="-1" strike="noStrike">
                  <a:solidFill>
                    <a:srgbClr val="003366"/>
                  </a:solidFill>
                  <a:latin typeface="굴림"/>
                  <a:ea typeface="굴림"/>
                </a:rPr>
                <a:t>.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284720" y="5157720"/>
              <a:ext cx="792000" cy="0"/>
            </a:xfrm>
            <a:prstGeom prst="line">
              <a:avLst/>
            </a:prstGeom>
            <a:ln w="5724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539640" y="1557360"/>
            <a:ext cx="55450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99"/>
              </a:spcBef>
              <a:buClr>
                <a:srgbClr val="24199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(pole)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이 없는 텐트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267D8-5EA8-4234-A214-830B54EF6028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755640" y="1628640"/>
            <a:ext cx="396072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241996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해결방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24199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발명원리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29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조건에 의한 분리를 이용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24199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폴 슬리브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(pole sleeve)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를 공기 튜브로 대체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24199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공기 주입으로 텐트의 형상을 만들어 텐트를 세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24199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텐트의 저장과 운반 용이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24199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파손 위험의 감소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658800" y="318960"/>
            <a:ext cx="8244000" cy="13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4932360" y="2060640"/>
            <a:ext cx="3835440" cy="325908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539640" y="189000"/>
            <a:ext cx="7925040" cy="1143000"/>
          </a:xfrm>
          <a:prstGeom prst="roundRect">
            <a:avLst>
              <a:gd name="adj" fmla="val 17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견출고딕"/>
                <a:ea typeface="휴먼견출고딕"/>
              </a:rPr>
              <a:t>공학 분야의 </a:t>
            </a:r>
            <a:r>
              <a:rPr b="0" lang="en-US" sz="4400" spc="-1" strike="noStrike">
                <a:solidFill>
                  <a:srgbClr val="000000"/>
                </a:solidFill>
                <a:latin typeface="휴먼견출고딕"/>
                <a:ea typeface="휴먼견출고딕"/>
              </a:rPr>
              <a:t>TRIZ</a:t>
            </a:r>
            <a:r>
              <a:rPr b="0" lang="ko-KR" sz="4400" spc="-1" strike="noStrike">
                <a:solidFill>
                  <a:srgbClr val="000000"/>
                </a:solidFill>
                <a:latin typeface="휴먼견출고딕"/>
                <a:ea typeface="휴먼견출고딕"/>
              </a:rPr>
              <a:t> </a:t>
            </a:r>
            <a:r>
              <a:rPr b="0" lang="ko-KR" sz="4400" spc="-1" strike="noStrike">
                <a:solidFill>
                  <a:srgbClr val="000000"/>
                </a:solidFill>
                <a:latin typeface="휴먼견출고딕"/>
                <a:ea typeface="휴먼견출고딕"/>
              </a:rPr>
              <a:t>사례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2AF2A-DD24-492D-A383-68DB44FCF27B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휴먼견출고딕"/>
              </a:rPr>
              <a:t>공학분야의 </a:t>
            </a:r>
            <a:r>
              <a:rPr b="0" lang="en-US" sz="4400" spc="-1" strike="noStrike">
                <a:solidFill>
                  <a:srgbClr val="000000"/>
                </a:solidFill>
                <a:latin typeface="휴먼견출고딕"/>
              </a:rPr>
              <a:t>TRIZ</a:t>
            </a:r>
            <a:r>
              <a:rPr b="0" lang="ko-KR" sz="4000" spc="-1" strike="noStrike">
                <a:solidFill>
                  <a:srgbClr val="000000"/>
                </a:solidFill>
                <a:latin typeface="휴먼견출고딕"/>
              </a:rPr>
              <a:t> </a:t>
            </a:r>
            <a:r>
              <a:rPr b="0" lang="ko-KR" sz="4000" spc="-1" strike="noStrike">
                <a:solidFill>
                  <a:srgbClr val="000000"/>
                </a:solidFill>
                <a:latin typeface="휴먼견출고딕"/>
              </a:rPr>
              <a:t>사례</a:t>
            </a:r>
            <a:endParaRPr b="0" lang="en-US" sz="4000" spc="-1" strike="noStrike">
              <a:solidFill>
                <a:srgbClr val="000000"/>
              </a:solidFill>
              <a:latin typeface="휴먼견출고딕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4000" y="2025360"/>
            <a:ext cx="838836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41996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일반적 사실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99"/>
              </a:spcBef>
              <a:buClr>
                <a:srgbClr val="24199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LS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전선에서 생산하는 튜브생산 과정에서 압연 공정을 위해 철판을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120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˚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C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이상의 온도에서 가열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99"/>
              </a:spcBef>
              <a:buClr>
                <a:srgbClr val="24199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철판을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800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˚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C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이상 가열시 산화 현상 발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99"/>
              </a:spcBef>
              <a:buClr>
                <a:srgbClr val="24199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철판에 산화 발생 시 철판의 강도 저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99"/>
              </a:spcBef>
              <a:buClr>
                <a:srgbClr val="24199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산화된 강철한을 튜브에 그대로 적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241996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모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241996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해결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99"/>
              </a:spcBef>
              <a:buClr>
                <a:srgbClr val="24199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철판 압연 공정에서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0.01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초 동안 표면만 살짝 냉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99"/>
              </a:spcBef>
              <a:buClr>
                <a:srgbClr val="24199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철판 표면만 냉각시키면 이러한 산화 현상 방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1116000" y="4508640"/>
            <a:ext cx="7559640" cy="550080"/>
            <a:chOff x="1116000" y="4508640"/>
            <a:chExt cx="7559640" cy="550080"/>
          </a:xfrm>
        </p:grpSpPr>
        <p:sp>
          <p:nvSpPr>
            <p:cNvPr id="283" name=""/>
            <p:cNvSpPr/>
            <p:nvPr/>
          </p:nvSpPr>
          <p:spPr>
            <a:xfrm>
              <a:off x="1116000" y="4659840"/>
              <a:ext cx="3095640" cy="3988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  <a:effectLst>
              <a:outerShdw dist="107932" dir="27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압연 공정을 위해 온도를 높여야 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. 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148360" y="4508640"/>
              <a:ext cx="3527280" cy="398880"/>
            </a:xfrm>
            <a:prstGeom prst="rect">
              <a:avLst/>
            </a:prstGeom>
            <a:solidFill>
              <a:srgbClr val="99cc99"/>
            </a:solidFill>
            <a:ln w="38160">
              <a:solidFill>
                <a:srgbClr val="99cc99"/>
              </a:solidFill>
              <a:miter/>
            </a:ln>
            <a:effectLst>
              <a:outerShdw dist="107932" dir="27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철판의 강도를 위해 온도를 낮춰야 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.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284720" y="4869000"/>
              <a:ext cx="792000" cy="0"/>
            </a:xfrm>
            <a:prstGeom prst="line">
              <a:avLst/>
            </a:prstGeom>
            <a:ln w="5724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539640" y="1484280"/>
            <a:ext cx="55450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99"/>
              </a:spcBef>
              <a:buClr>
                <a:srgbClr val="24199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LS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전선의 튜브 개선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D2838-6D5E-410E-9964-D04112D736A5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견출고딕"/>
              </a:rPr>
              <a:t>비공학 분야의 </a:t>
            </a:r>
            <a:r>
              <a:rPr b="0" lang="en-US" sz="4400" spc="-1" strike="noStrike">
                <a:solidFill>
                  <a:srgbClr val="000000"/>
                </a:solidFill>
                <a:latin typeface="휴먼견출고딕"/>
              </a:rPr>
              <a:t>TRIZ</a:t>
            </a:r>
            <a:endParaRPr b="0" lang="en-US" sz="4400" spc="-1" strike="noStrike">
              <a:solidFill>
                <a:srgbClr val="000000"/>
              </a:solidFill>
              <a:latin typeface="휴먼견출고딕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806436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241996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대개의 비즈니스 분야의 모순 해소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24199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win-lose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의 경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24199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하나를 좋게 하면 다른 하나가 나빠짐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24199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중간에서의 타협적인 해결 방법이 한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241996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트리즈가 접목된 비즈니스 분야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24199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Win-win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해결 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24199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나빠지는 것 없이 둘 다 좋아지는 해결방법 제시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62FB4-DE77-409C-95E2-ADD4734306AE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견출고딕"/>
              </a:rPr>
              <a:t>비공학 분야의 </a:t>
            </a:r>
            <a:r>
              <a:rPr b="0" lang="en-US" sz="4400" spc="-1" strike="noStrike">
                <a:solidFill>
                  <a:srgbClr val="000000"/>
                </a:solidFill>
                <a:latin typeface="휴먼견출고딕"/>
              </a:rPr>
              <a:t>TRIZ</a:t>
            </a:r>
            <a:r>
              <a:rPr b="0" lang="ko-KR" sz="4400" spc="-1" strike="noStrike">
                <a:solidFill>
                  <a:srgbClr val="000000"/>
                </a:solidFill>
                <a:latin typeface="휴먼견출고딕"/>
              </a:rPr>
              <a:t> </a:t>
            </a:r>
            <a:r>
              <a:rPr b="0" lang="ko-KR" sz="4400" spc="-1" strike="noStrike">
                <a:solidFill>
                  <a:srgbClr val="000000"/>
                </a:solidFill>
                <a:latin typeface="휴먼견출고딕"/>
              </a:rPr>
              <a:t>사례</a:t>
            </a:r>
            <a:endParaRPr b="0" lang="en-US" sz="4400" spc="-1" strike="noStrike">
              <a:solidFill>
                <a:srgbClr val="000000"/>
              </a:solidFill>
              <a:latin typeface="휴먼견출고딕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813744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41996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일반적 사실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4199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마이크로소프트사는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2004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년 초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WOT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석을 통해 전략을 수립하는 과정에서 직원수 조정의 필요성 인식 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41996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모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41996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해결방안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4199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발명의 원리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19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번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주기적 조치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을 적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241996"/>
              </a:buClr>
              <a:buFont typeface="굴림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지속적으로 실시하던 소프트웨어의 업그레이드를 특정시점마다 집중해서 수행’ 하는 것으로 전환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4199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발명의 원리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34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번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폐기 및 복구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적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241996"/>
              </a:buClr>
              <a:buFont typeface="굴림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종업원을 프로젝트 베이스로 계약 고용하고 유사 프로젝트 발생시 그들을 재고용 한다’ 는 원칙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1116000" y="3392640"/>
            <a:ext cx="7775640" cy="1015200"/>
            <a:chOff x="1116000" y="3392640"/>
            <a:chExt cx="7775640" cy="1015200"/>
          </a:xfrm>
        </p:grpSpPr>
        <p:sp>
          <p:nvSpPr>
            <p:cNvPr id="292" name=""/>
            <p:cNvSpPr/>
            <p:nvPr/>
          </p:nvSpPr>
          <p:spPr>
            <a:xfrm>
              <a:off x="1116000" y="3399120"/>
              <a:ext cx="3527280" cy="1008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  <a:effectLst>
              <a:outerShdw dist="107932" dir="27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치열한 경쟁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, </a:t>
              </a:r>
              <a:r>
                <a:rPr b="0" lang="ko-KR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글로벌화 등에 대응하여 시장점유율 확대를 위해 종업원 수를 증가의 필요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651640" y="3392640"/>
              <a:ext cx="3240000" cy="703800"/>
            </a:xfrm>
            <a:prstGeom prst="rect">
              <a:avLst/>
            </a:prstGeom>
            <a:solidFill>
              <a:srgbClr val="99cc99"/>
            </a:solidFill>
            <a:ln w="38160">
              <a:solidFill>
                <a:srgbClr val="99cc99"/>
              </a:solidFill>
              <a:miter/>
            </a:ln>
            <a:effectLst>
              <a:outerShdw dist="107932" dir="27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종업원 수가 증가함에 따라 지출 비용의 증가에 따른 기업의 이윤 감소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716360" y="3895560"/>
              <a:ext cx="792360" cy="1080"/>
            </a:xfrm>
            <a:prstGeom prst="line">
              <a:avLst/>
            </a:prstGeom>
            <a:ln w="5724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539640" y="1484280"/>
            <a:ext cx="61200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99"/>
              </a:spcBef>
              <a:buClr>
                <a:srgbClr val="24199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마이크로소프트사의 종업원 수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84167-372A-4FC9-8503-1A7EBDA05E92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견출고딕"/>
              </a:rPr>
              <a:t>트리즈</a:t>
            </a:r>
            <a:r>
              <a:rPr b="0" lang="en-US" sz="4400" spc="-1" strike="noStrike">
                <a:solidFill>
                  <a:srgbClr val="000000"/>
                </a:solidFill>
                <a:latin typeface="휴먼견출고딕"/>
              </a:rPr>
              <a:t>(TRIZ) </a:t>
            </a:r>
            <a:r>
              <a:rPr b="0" lang="ko-KR" sz="4400" spc="-1" strike="noStrike">
                <a:solidFill>
                  <a:srgbClr val="000000"/>
                </a:solidFill>
                <a:latin typeface="휴먼견출고딕"/>
              </a:rPr>
              <a:t>정의</a:t>
            </a:r>
            <a:endParaRPr b="0" lang="en-US" sz="4400" spc="-1" strike="noStrike">
              <a:solidFill>
                <a:srgbClr val="000000"/>
              </a:solidFill>
              <a:latin typeface="휴먼견출고딕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8064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241996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ory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ventiv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blem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ving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의 약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241996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무엇을 해결해야 하는가를 가르쳐 주는 동시에 어떻게 해결해야 하는지를 가르쳐 주는 기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241996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창조성이 뛰어난 특허로부터 문제해결의 규칙성과 원리를 발견하여 절차화한 이론 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241996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주어진 문제의 가장 이상적인 결과를 얻어내는데 관건이 되는 모순을 찾아내고 이를 극복함으로써 혁신적 해결안을 얻을 수 있는 방법론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5D3FB-5309-4233-AD43-C69638F50AC3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598680" y="247680"/>
            <a:ext cx="7806960" cy="10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휴먼견출고딕"/>
              </a:rPr>
              <a:t>TRIZ</a:t>
            </a:r>
            <a:r>
              <a:rPr b="0" lang="ko-KR" sz="4400" spc="-1" strike="noStrike">
                <a:solidFill>
                  <a:srgbClr val="000000"/>
                </a:solidFill>
                <a:latin typeface="휴먼견출고딕"/>
              </a:rPr>
              <a:t>의 전망</a:t>
            </a:r>
            <a:endParaRPr b="0" lang="en-US" sz="4400" spc="-1" strike="noStrike">
              <a:solidFill>
                <a:srgbClr val="000000"/>
              </a:solidFill>
              <a:latin typeface="휴먼견출고딕"/>
            </a:endParaRPr>
          </a:p>
        </p:txBody>
      </p:sp>
      <p:sp>
        <p:nvSpPr>
          <p:cNvPr id="297" name=""/>
          <p:cNvSpPr/>
          <p:nvPr/>
        </p:nvSpPr>
        <p:spPr>
          <a:xfrm>
            <a:off x="2103480" y="2347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55640" y="1700280"/>
            <a:ext cx="8388360" cy="34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rial"/>
                <a:ea typeface="굴림"/>
              </a:rPr>
              <a:t>  </a:t>
            </a:r>
            <a:r>
              <a:rPr b="0" lang="ko-KR" sz="2200" spc="-1" strike="noStrike">
                <a:solidFill>
                  <a:srgbClr val="000000"/>
                </a:solidFill>
                <a:latin typeface="Arial"/>
                <a:ea typeface="굴림"/>
              </a:rPr>
              <a:t>지금까지 트리즈 기법을 사용하지 않고도 문제를 해결해 온 것은 사실이다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. </a:t>
            </a:r>
            <a:r>
              <a:rPr b="0" lang="ko-KR" sz="2200" spc="-1" strike="noStrike">
                <a:solidFill>
                  <a:srgbClr val="000000"/>
                </a:solidFill>
                <a:latin typeface="Arial"/>
                <a:ea typeface="굴림"/>
              </a:rPr>
              <a:t>그러나 변수를 하나씩 바꾸면서 시도하는 즉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Arial"/>
                <a:ea typeface="굴림"/>
              </a:rPr>
              <a:t>시행착오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rial"/>
                <a:ea typeface="굴림"/>
              </a:rPr>
              <a:t>를 기반으로 하는 접근법 보다 이유가 있는 접근법이 있다면 후자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rial"/>
                <a:ea typeface="굴림"/>
              </a:rPr>
              <a:t>를 택함으로써 해결안의 탐색 시간과 노력을 줄일 수 있다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.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  </a:t>
            </a:r>
            <a:r>
              <a:rPr b="0" lang="ko-KR" sz="2200" spc="-1" strike="noStrike">
                <a:solidFill>
                  <a:srgbClr val="000000"/>
                </a:solidFill>
                <a:latin typeface="Arial"/>
                <a:ea typeface="굴림"/>
              </a:rPr>
              <a:t>실제로 트리즈를 사용함으로써 크고 작은 기술적 문제에 직면하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rial"/>
                <a:ea typeface="굴림"/>
              </a:rPr>
              <a:t>는  엔지니어들의 해결책을 찾는데 큰 도움을 주었을 뿐만 아니라 첨단 기술이나 특허를 개발하는 데에도 기여하였다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. </a:t>
            </a:r>
            <a:r>
              <a:rPr b="0" lang="ko-KR" sz="2200" spc="-1" strike="noStrike">
                <a:solidFill>
                  <a:srgbClr val="000000"/>
                </a:solidFill>
                <a:latin typeface="Arial"/>
                <a:ea typeface="굴림"/>
              </a:rPr>
              <a:t>즉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Arial"/>
                <a:ea typeface="굴림"/>
              </a:rPr>
              <a:t>발상의 전 환과 창의적 아이디어에 목말라 있는 기업들에게 매력적인 해결책 을 제시한 것이다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.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  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CD5E7-0DDC-4D47-A2DE-C7EEC0633D2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598680" y="247680"/>
            <a:ext cx="7806960" cy="10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휴먼견출고딕"/>
              </a:rPr>
              <a:t>TRIZ</a:t>
            </a:r>
            <a:r>
              <a:rPr b="0" lang="ko-KR" sz="4400" spc="-1" strike="noStrike">
                <a:solidFill>
                  <a:srgbClr val="000000"/>
                </a:solidFill>
                <a:latin typeface="휴먼견출고딕"/>
              </a:rPr>
              <a:t>의 전망</a:t>
            </a:r>
            <a:endParaRPr b="0" lang="en-US" sz="4400" spc="-1" strike="noStrike">
              <a:solidFill>
                <a:srgbClr val="000000"/>
              </a:solidFill>
              <a:latin typeface="휴먼견출고딕"/>
            </a:endParaRPr>
          </a:p>
        </p:txBody>
      </p:sp>
      <p:sp>
        <p:nvSpPr>
          <p:cNvPr id="300" name=""/>
          <p:cNvSpPr/>
          <p:nvPr/>
        </p:nvSpPr>
        <p:spPr>
          <a:xfrm>
            <a:off x="684360" y="1628640"/>
            <a:ext cx="8459640" cy="32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오늘날과 같은 고객 가치 창출을 위한 무한 경쟁 시대에는 체계적 이고 빠른 혁신과 발명이 요구된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. 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따라서 기업 간의 기술경쟁은 피할 수 없게 되었고 엔지니어들은 창의력으로 무장되어야 한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현재로서는 트리즈 보다 더 나은 방법은 없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따라서 앞으로도 기 업에서의 트리즈의 중요성은 지속 될 것이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이는 단지 기업에서만 국한된 것이 아니라 점차 여러 분야의 성격에 맞추어져 확대되어 갈 것이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또한 기업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과 각 분야에서의 요구에 발맞춰 대학 등의 교육 기관에서도 창의적인 문제 해결 기법 교육에 박차를 가할 뿐 만 아니라 체계적인 도구로써의 활용이 기대 될 것이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ACFDB-6CF5-4B28-9D5B-DC03875E876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900000" y="1916280"/>
            <a:ext cx="7632360" cy="4343400"/>
            <a:chOff x="900000" y="1916280"/>
            <a:chExt cx="7632360" cy="4343400"/>
          </a:xfrm>
        </p:grpSpPr>
        <p:sp>
          <p:nvSpPr>
            <p:cNvPr id="104" name=""/>
            <p:cNvSpPr/>
            <p:nvPr/>
          </p:nvSpPr>
          <p:spPr>
            <a:xfrm>
              <a:off x="900000" y="4606920"/>
              <a:ext cx="5411520" cy="1492920"/>
            </a:xfrm>
            <a:prstGeom prst="rect">
              <a:avLst/>
            </a:prstGeom>
            <a:solidFill>
              <a:srgbClr val="241996">
                <a:alpha val="16000"/>
              </a:srgbClr>
            </a:solidFill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1038960" y="1916280"/>
              <a:ext cx="7493400" cy="4343400"/>
              <a:chOff x="1038960" y="1916280"/>
              <a:chExt cx="7493400" cy="4343400"/>
            </a:xfrm>
          </p:grpSpPr>
          <p:sp>
            <p:nvSpPr>
              <p:cNvPr id="106" name=""/>
              <p:cNvSpPr/>
              <p:nvPr/>
            </p:nvSpPr>
            <p:spPr>
              <a:xfrm>
                <a:off x="4718160" y="3294000"/>
                <a:ext cx="0" cy="12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791760" y="2512080"/>
                <a:ext cx="1738440" cy="99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굴림"/>
                    <a:ea typeface="굴림"/>
                  </a:rPr>
                  <a:t>시행착오 및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굴림"/>
                    <a:ea typeface="굴림"/>
                  </a:rPr>
                  <a:t>소요시간 최소화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791760" y="2009880"/>
                <a:ext cx="1738440" cy="50220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굴림"/>
                    <a:ea typeface="굴림"/>
                  </a:rPr>
                  <a:t>TRIZ </a:t>
                </a:r>
                <a:r>
                  <a:rPr b="1" lang="ko-KR" sz="1800" spc="-1" strike="noStrike">
                    <a:solidFill>
                      <a:srgbClr val="ffffff"/>
                    </a:solidFill>
                    <a:latin typeface="굴림"/>
                    <a:ea typeface="굴림"/>
                  </a:rPr>
                  <a:t>방식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791760" y="2009880"/>
                <a:ext cx="173844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791760" y="2512080"/>
                <a:ext cx="1738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791760" y="3510720"/>
                <a:ext cx="173844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791760" y="2009880"/>
                <a:ext cx="0" cy="15008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30560" y="2009880"/>
                <a:ext cx="0" cy="15008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791760" y="4951800"/>
                <a:ext cx="1740240" cy="1307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굴림"/>
                    <a:ea typeface="굴림"/>
                  </a:rPr>
                  <a:t>수많은 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굴림"/>
                    <a:ea typeface="굴림"/>
                  </a:rPr>
                  <a:t>시행착오와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굴림"/>
                    <a:ea typeface="굴림"/>
                  </a:rPr>
                  <a:t>오랜시간 필요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791760" y="4394160"/>
                <a:ext cx="1740240" cy="557640"/>
              </a:xfrm>
              <a:prstGeom prst="rect">
                <a:avLst/>
              </a:prstGeom>
              <a:solidFill>
                <a:srgbClr val="2419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굴림"/>
                    <a:ea typeface="굴림"/>
                  </a:rPr>
                  <a:t>기존방식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791760" y="4394160"/>
                <a:ext cx="174024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791760" y="4951800"/>
                <a:ext cx="1740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791760" y="6259680"/>
                <a:ext cx="174024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791760" y="4394160"/>
                <a:ext cx="0" cy="18651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532360" y="4394160"/>
                <a:ext cx="0" cy="18651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038960" y="2009880"/>
                <a:ext cx="1537920" cy="1191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66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000000"/>
                    </a:solidFill>
                    <a:latin typeface="굴림"/>
                    <a:ea typeface="굴림"/>
                  </a:rPr>
                  <a:t>현실문제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000000"/>
                    </a:solidFill>
                    <a:latin typeface="굴림"/>
                    <a:ea typeface="굴림"/>
                  </a:rPr>
                  <a:t>표준화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16200" y="2009880"/>
                <a:ext cx="1537920" cy="1191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66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000000"/>
                    </a:solidFill>
                    <a:latin typeface="굴림"/>
                    <a:ea typeface="굴림"/>
                  </a:rPr>
                  <a:t>표준해결책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000000"/>
                    </a:solidFill>
                    <a:latin typeface="굴림"/>
                    <a:ea typeface="굴림"/>
                  </a:rPr>
                  <a:t>제시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516200" y="4763160"/>
                <a:ext cx="1537920" cy="1191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66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000000"/>
                    </a:solidFill>
                    <a:latin typeface="굴림"/>
                    <a:ea typeface="굴림"/>
                  </a:rPr>
                  <a:t>현실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000000"/>
                    </a:solidFill>
                    <a:latin typeface="굴림"/>
                    <a:ea typeface="굴림"/>
                  </a:rPr>
                  <a:t>해결책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038960" y="4763160"/>
                <a:ext cx="1537920" cy="1191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66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000000"/>
                    </a:solidFill>
                    <a:latin typeface="굴림"/>
                    <a:ea typeface="굴림"/>
                  </a:rPr>
                  <a:t>현실문제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>
                <a:off x="1239120" y="3294000"/>
                <a:ext cx="0" cy="1284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777400" y="5312880"/>
                <a:ext cx="1473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777400" y="2650320"/>
                <a:ext cx="1473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880360" y="2783880"/>
                <a:ext cx="13748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굴림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굴림"/>
                    <a:ea typeface="굴림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굴림"/>
                    <a:ea typeface="굴림"/>
                  </a:rPr>
                  <a:t>40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굴림"/>
                    <a:ea typeface="굴림"/>
                  </a:rPr>
                  <a:t>가지 발명원리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굴림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굴림"/>
                    <a:ea typeface="굴림"/>
                  </a:rPr>
                  <a:t>분리원칙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566360" y="3612240"/>
                <a:ext cx="10216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굴림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굴림"/>
                    <a:ea typeface="굴림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굴림"/>
                    <a:ea typeface="굴림"/>
                  </a:rPr>
                  <a:t>문제 단순화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굴림"/>
                    <a:ea typeface="굴림"/>
                  </a:rPr>
                  <a:t>　및 유형화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718160" y="3384720"/>
                <a:ext cx="19393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굴림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굴림"/>
                    <a:ea typeface="굴림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굴림"/>
                    <a:ea typeface="굴림"/>
                  </a:rPr>
                  <a:t>주변자원 및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굴림"/>
                    <a:ea typeface="굴림"/>
                  </a:rPr>
                  <a:t>　실제 지식접목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굴림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굴림"/>
                    <a:ea typeface="굴림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굴림"/>
                    <a:ea typeface="굴림"/>
                  </a:rPr>
                  <a:t>평가 및 검증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324120" y="5219280"/>
                <a:ext cx="401040" cy="459360"/>
              </a:xfrm>
              <a:prstGeom prst="rightArrow">
                <a:avLst>
                  <a:gd name="adj1" fmla="val 67296"/>
                  <a:gd name="adj2" fmla="val 55148"/>
                </a:avLst>
              </a:prstGeom>
              <a:solidFill>
                <a:srgbClr val="2419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256440" y="2190960"/>
                <a:ext cx="401040" cy="643680"/>
              </a:xfrm>
              <a:prstGeom prst="rightArrow">
                <a:avLst>
                  <a:gd name="adj1" fmla="val 49685"/>
                  <a:gd name="adj2" fmla="val 45222"/>
                </a:avLst>
              </a:prstGeom>
              <a:solidFill>
                <a:srgbClr val="ff33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788800" y="1916280"/>
                <a:ext cx="46728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V="1">
                <a:off x="6256440" y="1916280"/>
                <a:ext cx="0" cy="412776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>
                <a:off x="5988960" y="6044040"/>
                <a:ext cx="2667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DA612-152B-44A4-BF99-D23A4759702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휴먼견출고딕"/>
              </a:rPr>
              <a:t>TRIZ</a:t>
            </a:r>
            <a:r>
              <a:rPr b="0" lang="ko-KR" sz="4400" spc="-1" strike="noStrike">
                <a:solidFill>
                  <a:srgbClr val="000000"/>
                </a:solidFill>
                <a:latin typeface="휴먼견출고딕"/>
              </a:rPr>
              <a:t>의 기원</a:t>
            </a:r>
            <a:endParaRPr b="0" lang="en-US" sz="4400" spc="-1" strike="noStrike">
              <a:solidFill>
                <a:srgbClr val="000000"/>
              </a:solidFill>
              <a:latin typeface="휴먼견출고딕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42920" y="1668600"/>
            <a:ext cx="4007160" cy="46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41996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구 소련의 특허 업무 담당자였던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Genrich Altshuller(1924-1998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에 의해 시작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241996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946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부터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200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 건에 달하는 기존의 특허의 분석을 통해 발명의 방향과 공통적 원리를 구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3460680" cy="45370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211400" y="6165720"/>
            <a:ext cx="291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돋움"/>
                <a:ea typeface="돋움"/>
              </a:rPr>
              <a:t>&lt; Genrich Altshuller &gt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699FE-C439-4A17-BBBD-5C8A5325A15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4000" y="1557000"/>
            <a:ext cx="8064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241996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혁신적인 문제해결은 주어진 문제에 내재하는 근본 모순의 제거를 통해서만 얻을 수 있다고 생각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24199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G. Altshull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는 자신의 연구를 총칭하여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창의적 문제를 해결하는 방법론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Teoriya Reshniya Izobretatelskikh Zadatch)”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이라 명명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각 단어의 앞자를 따서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RIZ”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라 부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24199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G. Altshull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의 창의적 문제란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최소한 하나 이상의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술적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·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물리적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모순을 가지고 있으며 아직 그 해결안이 알려져 있지 않은 문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98680" y="247680"/>
            <a:ext cx="7806960" cy="10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휴먼견출고딕"/>
              </a:rPr>
              <a:t>TRIZ</a:t>
            </a:r>
            <a:r>
              <a:rPr b="0" lang="ko-KR" sz="4400" spc="-1" strike="noStrike">
                <a:solidFill>
                  <a:srgbClr val="000000"/>
                </a:solidFill>
                <a:latin typeface="휴먼견출고딕"/>
              </a:rPr>
              <a:t>의 기원</a:t>
            </a:r>
            <a:endParaRPr b="0" lang="en-US" sz="4400" spc="-1" strike="noStrike">
              <a:solidFill>
                <a:srgbClr val="000000"/>
              </a:solidFill>
              <a:latin typeface="휴먼견출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77D65-EFC6-4A82-A204-0D1DA34FE24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견출고딕"/>
              </a:rPr>
              <a:t>해외의 </a:t>
            </a:r>
            <a:r>
              <a:rPr b="0" lang="en-US" sz="4400" spc="-1" strike="noStrike">
                <a:solidFill>
                  <a:srgbClr val="000000"/>
                </a:solidFill>
                <a:latin typeface="휴먼견출고딕"/>
              </a:rPr>
              <a:t>TRIZ</a:t>
            </a:r>
            <a:r>
              <a:rPr b="0" lang="ko-KR" sz="4400" spc="-1" strike="noStrike">
                <a:solidFill>
                  <a:srgbClr val="000000"/>
                </a:solidFill>
                <a:latin typeface="휴먼견출고딕"/>
              </a:rPr>
              <a:t> </a:t>
            </a:r>
            <a:r>
              <a:rPr b="0" lang="ko-KR" sz="4400" spc="-1" strike="noStrike">
                <a:solidFill>
                  <a:srgbClr val="000000"/>
                </a:solidFill>
                <a:latin typeface="휴먼견출고딕"/>
              </a:rPr>
              <a:t>동향</a:t>
            </a:r>
            <a:endParaRPr b="0" lang="en-US" sz="4400" spc="-1" strike="noStrike">
              <a:solidFill>
                <a:srgbClr val="000000"/>
              </a:solidFill>
              <a:latin typeface="휴먼견출고딕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55280" y="2133360"/>
            <a:ext cx="8388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224"/>
              </a:spcBef>
              <a:buClr>
                <a:srgbClr val="241996"/>
              </a:buClr>
              <a:buFont typeface="굴림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1980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년 대 후반 미국에서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TRIZ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관련 소프트웨어 개발 툴로 상용화 시작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224"/>
              </a:spcBef>
              <a:buClr>
                <a:srgbClr val="241996"/>
              </a:buClr>
              <a:buFont typeface="굴림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1990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년 대 초반 미국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일본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유럽 등 서방세계에 도입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249"/>
              </a:spcBef>
              <a:buClr>
                <a:srgbClr val="241996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러시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224"/>
              </a:spcBef>
              <a:buClr>
                <a:srgbClr val="241996"/>
              </a:buClr>
              <a:buFont typeface="굴림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페텔부르크 대학을 비롯하여 산업기술대학 등에 트리즈가 기술교육과목으로 채택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224"/>
              </a:spcBef>
              <a:buClr>
                <a:srgbClr val="241996"/>
              </a:buClr>
              <a:buFont typeface="굴림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트리즈를 기본적으로 교육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훈련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249"/>
              </a:spcBef>
              <a:buClr>
                <a:srgbClr val="241996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미국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제도권 교육 안에서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Wayne State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대학원에 트리즈 과정이 설치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운영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249"/>
              </a:spcBef>
              <a:buClr>
                <a:srgbClr val="241996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스웨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왕립공학대학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(KTH)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을 중심으로 미국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MIT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대학과 공동으로 트리즈를 사용하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여 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R&amp;D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활동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300"/>
              </a:spcBef>
              <a:buClr>
                <a:srgbClr val="241996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일본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미쯔비씨 종합연구소가 미국 트리즈 소프트웨어의 총 대리점 역할 수행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>
            <a:off x="611280" y="1628640"/>
            <a:ext cx="38163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24199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국가별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TRIZ 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동향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03B17-17BB-46D6-8B51-AB545A8C2F8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598680" y="247680"/>
            <a:ext cx="7806960" cy="10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견출고딕"/>
              </a:rPr>
              <a:t>해외의 </a:t>
            </a:r>
            <a:r>
              <a:rPr b="0" lang="en-US" sz="4400" spc="-1" strike="noStrike">
                <a:solidFill>
                  <a:srgbClr val="000000"/>
                </a:solidFill>
                <a:latin typeface="휴먼견출고딕"/>
              </a:rPr>
              <a:t>TRIZ </a:t>
            </a:r>
            <a:r>
              <a:rPr b="0" lang="ko-KR" sz="4400" spc="-1" strike="noStrike">
                <a:solidFill>
                  <a:srgbClr val="000000"/>
                </a:solidFill>
                <a:latin typeface="휴먼견출고딕"/>
              </a:rPr>
              <a:t>동향</a:t>
            </a:r>
            <a:endParaRPr b="0" lang="en-US" sz="4400" spc="-1" strike="noStrike">
              <a:solidFill>
                <a:srgbClr val="000000"/>
              </a:solidFill>
              <a:latin typeface="휴먼견출고딕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26920" y="2204640"/>
            <a:ext cx="8064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41996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산요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Sanyo)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글로벌 스마트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21'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이라는 개발 프로세스의 혁신 활동에 트리즈를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신기술 개발 아이디어 창출 도구로 활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41996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닛산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Nissa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‘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하이브리드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’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엔진기술의 유효 특허 및 특허망 구축 목적으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트리즈 활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41996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인텔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Intel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41996"/>
              </a:buClr>
              <a:buFont typeface="굴림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메모리와 비메모리의 반도체 신제품 개발 시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발명 시스템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’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의 도구로 트리즈 활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41996"/>
              </a:buClr>
              <a:buFont typeface="굴림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트리즈 도입을 위해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40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만 달러를 투자해 공정기술 문제 해결과 차세대 기술전략 수립 도구로 활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41996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파나소닉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Panasonic)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기술문제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해결과 전략적 지적 자산 확보의 도구로 활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611280" y="1628640"/>
            <a:ext cx="38163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24199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기업별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TRIZ 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동향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BDAEC-2500-4687-B28C-FB2A15AED20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견출고딕"/>
              </a:rPr>
              <a:t>국내의 </a:t>
            </a:r>
            <a:r>
              <a:rPr b="0" lang="en-US" sz="4400" spc="-1" strike="noStrike">
                <a:solidFill>
                  <a:srgbClr val="000000"/>
                </a:solidFill>
                <a:latin typeface="휴먼견출고딕"/>
              </a:rPr>
              <a:t>TRIZ </a:t>
            </a:r>
            <a:r>
              <a:rPr b="0" lang="ko-KR" sz="4400" spc="-1" strike="noStrike">
                <a:solidFill>
                  <a:srgbClr val="000000"/>
                </a:solidFill>
                <a:latin typeface="휴먼견출고딕"/>
              </a:rPr>
              <a:t>동향</a:t>
            </a:r>
            <a:endParaRPr b="0" lang="en-US" sz="4400" spc="-1" strike="noStrike">
              <a:solidFill>
                <a:srgbClr val="000000"/>
              </a:solidFill>
              <a:latin typeface="휴먼견출고딕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55280" y="1628640"/>
            <a:ext cx="83883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241996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트리즈 기법은 반도체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이동통신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자동차 등의 업종에서 도입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을 이루면서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시그마보다 효율성이 높은 경영혁신 기법으로 주목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5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241996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삼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LG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포스코 등 국내 선두그룹들 연구개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R&amp;D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술설계 분야에 트리즈 도입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amp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첨단 신기술 개발에 활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5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241996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한국생산기술연구원은 국내 중소기업에 트리즈를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보급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·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지원 위해 트리즈 추진단을 구성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31949-8322-44E6-A59B-2EF88FA956B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3T06:36:17Z</dcterms:created>
  <dc:creator>SEC</dc:creator>
  <dc:description/>
  <dc:language>en-US</dc:language>
  <cp:lastModifiedBy>이한철</cp:lastModifiedBy>
  <dcterms:modified xsi:type="dcterms:W3CDTF">2007-11-21T01:45:41Z</dcterms:modified>
  <cp:revision>27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8001042</vt:lpwstr>
  </property>
</Properties>
</file>